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4E42-6CB3-44FD-93FB-D34FB65F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D6C-BC7A-4BCB-85CA-3C570AD4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BCF-C791-4A7D-A49C-ED9C336C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7F4-3815-4141-B78F-BAF2A439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C605-E8ED-4E27-947C-1730A338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4C7C-7EC3-46B5-A508-BF386A97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8ED-4FA6-4BAE-B768-CA15CDFF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43A4-2047-4ECC-B14F-0FB1BC1A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D54-D813-490B-AE92-3E68491C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DE5B-BB79-4E53-97D0-63370D3E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056-BD85-45C8-A295-F1DBB37D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969-D63C-42C5-AB37-C0BA374C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0F3D-2AC8-41E4-874A-0E78FAAC17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Lesson 9.7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art two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two dice are rolled, what is the probability that you get anything except two 6’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3098880"/>
            <a:ext cx="2857320" cy="1697040"/>
          </a:xfrm>
          <a:custGeom>
            <a:avLst/>
            <a:gdLst/>
            <a:ahLst/>
            <a:rect l="l" t="t" r="r" b="b"/>
            <a:pathLst>
              <a:path w="7938" h="4714">
                <a:moveTo>
                  <a:pt x="4291" y="9401"/>
                </a:moveTo>
                <a:cubicBezTo>
                  <a:pt x="4220" y="9472"/>
                  <a:pt x="4163" y="9513"/>
                  <a:pt x="4093" y="9575"/>
                </a:cubicBezTo>
                <a:cubicBezTo>
                  <a:pt x="4063" y="9601"/>
                  <a:pt x="3954" y="9624"/>
                  <a:pt x="3994" y="9624"/>
                </a:cubicBezTo>
                <a:cubicBezTo>
                  <a:pt x="4033" y="9624"/>
                  <a:pt x="4048" y="9599"/>
                  <a:pt x="4093" y="9599"/>
                </a:cubicBezTo>
                <a:cubicBezTo>
                  <a:pt x="4170" y="9599"/>
                  <a:pt x="4230" y="9653"/>
                  <a:pt x="4266" y="9723"/>
                </a:cubicBezTo>
                <a:cubicBezTo>
                  <a:pt x="4318" y="9824"/>
                  <a:pt x="4289" y="9889"/>
                  <a:pt x="4242" y="9971"/>
                </a:cubicBezTo>
                <a:cubicBezTo>
                  <a:pt x="4207" y="10031"/>
                  <a:pt x="4166" y="10100"/>
                  <a:pt x="4093" y="10120"/>
                </a:cubicBezTo>
                <a:cubicBezTo>
                  <a:pt x="4028" y="10138"/>
                  <a:pt x="3964" y="10145"/>
                  <a:pt x="3894" y="10145"/>
                </a:cubicBezTo>
                <a:cubicBezTo>
                  <a:pt x="3859" y="10145"/>
                  <a:pt x="3751" y="10112"/>
                  <a:pt x="3721" y="10096"/>
                </a:cubicBezTo>
                <a:cubicBezTo>
                  <a:pt x="3698" y="10073"/>
                  <a:pt x="3690" y="10069"/>
                  <a:pt x="3696" y="10046"/>
                </a:cubicBezTo>
              </a:path>
              <a:path w="7938" h="4714">
                <a:moveTo>
                  <a:pt x="3572" y="9103"/>
                </a:moveTo>
                <a:cubicBezTo>
                  <a:pt x="3672" y="9074"/>
                  <a:pt x="3676" y="9091"/>
                  <a:pt x="3770" y="9103"/>
                </a:cubicBezTo>
                <a:cubicBezTo>
                  <a:pt x="3883" y="9117"/>
                  <a:pt x="3847" y="9125"/>
                  <a:pt x="3919" y="9203"/>
                </a:cubicBezTo>
                <a:cubicBezTo>
                  <a:pt x="3944" y="9230"/>
                  <a:pt x="3965" y="9265"/>
                  <a:pt x="3969" y="9302"/>
                </a:cubicBezTo>
                <a:cubicBezTo>
                  <a:pt x="3972" y="9327"/>
                  <a:pt x="3960" y="9391"/>
                  <a:pt x="3944" y="9401"/>
                </a:cubicBezTo>
                <a:cubicBezTo>
                  <a:pt x="3936" y="9401"/>
                  <a:pt x="3927" y="9401"/>
                  <a:pt x="3919" y="9401"/>
                </a:cubicBezTo>
              </a:path>
              <a:path w="7938" h="4714">
                <a:moveTo>
                  <a:pt x="4539" y="9054"/>
                </a:moveTo>
                <a:cubicBezTo>
                  <a:pt x="4621" y="9024"/>
                  <a:pt x="4701" y="8991"/>
                  <a:pt x="4787" y="8979"/>
                </a:cubicBezTo>
                <a:cubicBezTo>
                  <a:pt x="4859" y="8969"/>
                  <a:pt x="4938" y="8979"/>
                  <a:pt x="5011" y="8979"/>
                </a:cubicBezTo>
              </a:path>
              <a:path w="7938" h="4714">
                <a:moveTo>
                  <a:pt x="4440" y="9079"/>
                </a:moveTo>
                <a:cubicBezTo>
                  <a:pt x="4395" y="9142"/>
                  <a:pt x="4370" y="9159"/>
                  <a:pt x="4366" y="9227"/>
                </a:cubicBezTo>
                <a:cubicBezTo>
                  <a:pt x="4366" y="9252"/>
                  <a:pt x="4366" y="9260"/>
                  <a:pt x="4366" y="9277"/>
                </a:cubicBezTo>
                <a:cubicBezTo>
                  <a:pt x="4439" y="9277"/>
                  <a:pt x="4497" y="9263"/>
                  <a:pt x="4564" y="9252"/>
                </a:cubicBezTo>
                <a:cubicBezTo>
                  <a:pt x="4643" y="9240"/>
                  <a:pt x="4694" y="9268"/>
                  <a:pt x="4762" y="9302"/>
                </a:cubicBezTo>
                <a:cubicBezTo>
                  <a:pt x="4830" y="9336"/>
                  <a:pt x="4919" y="9409"/>
                  <a:pt x="4961" y="9475"/>
                </a:cubicBezTo>
                <a:cubicBezTo>
                  <a:pt x="5010" y="9551"/>
                  <a:pt x="5089" y="9731"/>
                  <a:pt x="5085" y="9823"/>
                </a:cubicBezTo>
                <a:cubicBezTo>
                  <a:pt x="5081" y="9912"/>
                  <a:pt x="5004" y="9967"/>
                  <a:pt x="4961" y="10021"/>
                </a:cubicBezTo>
                <a:cubicBezTo>
                  <a:pt x="4858" y="10149"/>
                  <a:pt x="4641" y="10100"/>
                  <a:pt x="4490" y="10071"/>
                </a:cubicBezTo>
              </a:path>
              <a:path w="7938" h="4714">
                <a:moveTo>
                  <a:pt x="3646" y="9302"/>
                </a:moveTo>
                <a:cubicBezTo>
                  <a:pt x="3663" y="9250"/>
                  <a:pt x="3682" y="9285"/>
                  <a:pt x="3721" y="9302"/>
                </a:cubicBezTo>
                <a:cubicBezTo>
                  <a:pt x="3809" y="9339"/>
                  <a:pt x="3851" y="9357"/>
                  <a:pt x="3919" y="9426"/>
                </a:cubicBezTo>
                <a:cubicBezTo>
                  <a:pt x="3957" y="9464"/>
                  <a:pt x="3988" y="9519"/>
                  <a:pt x="3969" y="9575"/>
                </a:cubicBezTo>
                <a:cubicBezTo>
                  <a:pt x="3947" y="9640"/>
                  <a:pt x="3914" y="9687"/>
                  <a:pt x="3870" y="9723"/>
                </a:cubicBezTo>
              </a:path>
              <a:path w="7938" h="4714">
                <a:moveTo>
                  <a:pt x="7640" y="9872"/>
                </a:moveTo>
                <a:cubicBezTo>
                  <a:pt x="7621" y="9840"/>
                  <a:pt x="7622" y="9846"/>
                  <a:pt x="7615" y="9798"/>
                </a:cubicBezTo>
                <a:cubicBezTo>
                  <a:pt x="7648" y="9771"/>
                  <a:pt x="7676" y="9761"/>
                  <a:pt x="7714" y="9748"/>
                </a:cubicBezTo>
                <a:cubicBezTo>
                  <a:pt x="7795" y="9722"/>
                  <a:pt x="7926" y="9703"/>
                  <a:pt x="8012" y="9723"/>
                </a:cubicBezTo>
                <a:cubicBezTo>
                  <a:pt x="8100" y="9743"/>
                  <a:pt x="8158" y="9785"/>
                  <a:pt x="8210" y="9847"/>
                </a:cubicBezTo>
                <a:cubicBezTo>
                  <a:pt x="8272" y="9921"/>
                  <a:pt x="8202" y="10042"/>
                  <a:pt x="8136" y="10096"/>
                </a:cubicBezTo>
                <a:cubicBezTo>
                  <a:pt x="8059" y="10159"/>
                  <a:pt x="7951" y="10198"/>
                  <a:pt x="7863" y="10244"/>
                </a:cubicBezTo>
                <a:cubicBezTo>
                  <a:pt x="7810" y="10272"/>
                  <a:pt x="7736" y="10292"/>
                  <a:pt x="7689" y="10319"/>
                </a:cubicBezTo>
                <a:cubicBezTo>
                  <a:pt x="7619" y="10359"/>
                  <a:pt x="7693" y="10304"/>
                  <a:pt x="7714" y="10294"/>
                </a:cubicBezTo>
                <a:cubicBezTo>
                  <a:pt x="7760" y="10272"/>
                  <a:pt x="7811" y="10271"/>
                  <a:pt x="7863" y="10269"/>
                </a:cubicBezTo>
                <a:cubicBezTo>
                  <a:pt x="7943" y="10265"/>
                  <a:pt x="7999" y="10303"/>
                  <a:pt x="8037" y="10368"/>
                </a:cubicBezTo>
                <a:cubicBezTo>
                  <a:pt x="8073" y="10428"/>
                  <a:pt x="8126" y="10520"/>
                  <a:pt x="8111" y="10592"/>
                </a:cubicBezTo>
                <a:cubicBezTo>
                  <a:pt x="8089" y="10694"/>
                  <a:pt x="7999" y="10815"/>
                  <a:pt x="7913" y="10864"/>
                </a:cubicBezTo>
                <a:cubicBezTo>
                  <a:pt x="7840" y="10905"/>
                  <a:pt x="7745" y="10889"/>
                  <a:pt x="7665" y="10889"/>
                </a:cubicBezTo>
                <a:cubicBezTo>
                  <a:pt x="7600" y="10889"/>
                  <a:pt x="7515" y="10879"/>
                  <a:pt x="7466" y="10840"/>
                </a:cubicBezTo>
                <a:cubicBezTo>
                  <a:pt x="7425" y="10808"/>
                  <a:pt x="7447" y="10788"/>
                  <a:pt x="7441" y="10740"/>
                </a:cubicBezTo>
              </a:path>
              <a:path w="7938" h="4714">
                <a:moveTo>
                  <a:pt x="8458" y="9773"/>
                </a:moveTo>
                <a:cubicBezTo>
                  <a:pt x="8600" y="9732"/>
                  <a:pt x="8686" y="9723"/>
                  <a:pt x="8830" y="9723"/>
                </a:cubicBezTo>
                <a:cubicBezTo>
                  <a:pt x="8876" y="9723"/>
                  <a:pt x="9033" y="9777"/>
                  <a:pt x="9079" y="9748"/>
                </a:cubicBezTo>
                <a:cubicBezTo>
                  <a:pt x="9079" y="9740"/>
                  <a:pt x="9079" y="9731"/>
                  <a:pt x="9079" y="9723"/>
                </a:cubicBezTo>
                <a:cubicBezTo>
                  <a:pt x="9063" y="9662"/>
                  <a:pt x="9039" y="9658"/>
                  <a:pt x="8979" y="9649"/>
                </a:cubicBezTo>
              </a:path>
              <a:path w="7938" h="4714">
                <a:moveTo>
                  <a:pt x="8359" y="9922"/>
                </a:moveTo>
                <a:cubicBezTo>
                  <a:pt x="8348" y="9957"/>
                  <a:pt x="8279" y="10106"/>
                  <a:pt x="8285" y="10145"/>
                </a:cubicBezTo>
                <a:cubicBezTo>
                  <a:pt x="8289" y="10174"/>
                  <a:pt x="8310" y="10181"/>
                  <a:pt x="8310" y="10220"/>
                </a:cubicBezTo>
                <a:cubicBezTo>
                  <a:pt x="8367" y="10220"/>
                  <a:pt x="8388" y="10211"/>
                  <a:pt x="8434" y="10195"/>
                </a:cubicBezTo>
                <a:cubicBezTo>
                  <a:pt x="8479" y="10180"/>
                  <a:pt x="8541" y="10131"/>
                  <a:pt x="8582" y="10120"/>
                </a:cubicBezTo>
                <a:cubicBezTo>
                  <a:pt x="8633" y="10106"/>
                  <a:pt x="8675" y="10096"/>
                  <a:pt x="8731" y="10096"/>
                </a:cubicBezTo>
                <a:cubicBezTo>
                  <a:pt x="8782" y="10096"/>
                  <a:pt x="8847" y="10124"/>
                  <a:pt x="8880" y="10170"/>
                </a:cubicBezTo>
                <a:cubicBezTo>
                  <a:pt x="8930" y="10240"/>
                  <a:pt x="8951" y="10336"/>
                  <a:pt x="8954" y="10418"/>
                </a:cubicBezTo>
                <a:cubicBezTo>
                  <a:pt x="8957" y="10508"/>
                  <a:pt x="8950" y="10578"/>
                  <a:pt x="8880" y="10641"/>
                </a:cubicBezTo>
                <a:cubicBezTo>
                  <a:pt x="8795" y="10718"/>
                  <a:pt x="8664" y="10750"/>
                  <a:pt x="8558" y="10790"/>
                </a:cubicBezTo>
                <a:cubicBezTo>
                  <a:pt x="8517" y="10805"/>
                  <a:pt x="8379" y="10843"/>
                  <a:pt x="8334" y="10815"/>
                </a:cubicBezTo>
                <a:cubicBezTo>
                  <a:pt x="8334" y="10790"/>
                  <a:pt x="8334" y="10782"/>
                  <a:pt x="8334" y="10765"/>
                </a:cubicBezTo>
              </a:path>
              <a:path w="7938" h="4714">
                <a:moveTo>
                  <a:pt x="9550" y="9699"/>
                </a:moveTo>
                <a:cubicBezTo>
                  <a:pt x="9520" y="9864"/>
                  <a:pt x="9470" y="10010"/>
                  <a:pt x="9426" y="10170"/>
                </a:cubicBezTo>
                <a:cubicBezTo>
                  <a:pt x="9373" y="10364"/>
                  <a:pt x="9325" y="10576"/>
                  <a:pt x="9252" y="10765"/>
                </a:cubicBezTo>
                <a:cubicBezTo>
                  <a:pt x="9172" y="10972"/>
                  <a:pt x="9101" y="11184"/>
                  <a:pt x="9004" y="11385"/>
                </a:cubicBezTo>
                <a:cubicBezTo>
                  <a:pt x="8921" y="11558"/>
                  <a:pt x="8872" y="11730"/>
                  <a:pt x="8806" y="11906"/>
                </a:cubicBezTo>
                <a:cubicBezTo>
                  <a:pt x="8770" y="12001"/>
                  <a:pt x="8726" y="12079"/>
                  <a:pt x="8706" y="12179"/>
                </a:cubicBezTo>
                <a:cubicBezTo>
                  <a:pt x="8700" y="12206"/>
                  <a:pt x="8713" y="12152"/>
                  <a:pt x="8706" y="12179"/>
                </a:cubicBezTo>
              </a:path>
              <a:path w="7938" h="4714">
                <a:moveTo>
                  <a:pt x="9351" y="11336"/>
                </a:moveTo>
                <a:cubicBezTo>
                  <a:pt x="9461" y="11299"/>
                  <a:pt x="9562" y="11250"/>
                  <a:pt x="9674" y="11311"/>
                </a:cubicBezTo>
                <a:cubicBezTo>
                  <a:pt x="9748" y="11352"/>
                  <a:pt x="9828" y="11421"/>
                  <a:pt x="9847" y="11509"/>
                </a:cubicBezTo>
                <a:cubicBezTo>
                  <a:pt x="9860" y="11567"/>
                  <a:pt x="9792" y="11679"/>
                  <a:pt x="9748" y="11708"/>
                </a:cubicBezTo>
                <a:cubicBezTo>
                  <a:pt x="9687" y="11748"/>
                  <a:pt x="9584" y="11770"/>
                  <a:pt x="9525" y="11807"/>
                </a:cubicBezTo>
                <a:cubicBezTo>
                  <a:pt x="9490" y="11829"/>
                  <a:pt x="9469" y="11842"/>
                  <a:pt x="9451" y="11857"/>
                </a:cubicBezTo>
                <a:cubicBezTo>
                  <a:pt x="9522" y="11857"/>
                  <a:pt x="9614" y="11838"/>
                  <a:pt x="9674" y="11881"/>
                </a:cubicBezTo>
                <a:cubicBezTo>
                  <a:pt x="9742" y="11930"/>
                  <a:pt x="9792" y="11975"/>
                  <a:pt x="9823" y="12055"/>
                </a:cubicBezTo>
                <a:cubicBezTo>
                  <a:pt x="9851" y="12127"/>
                  <a:pt x="9862" y="12218"/>
                  <a:pt x="9798" y="12278"/>
                </a:cubicBezTo>
                <a:cubicBezTo>
                  <a:pt x="9721" y="12351"/>
                  <a:pt x="9597" y="12370"/>
                  <a:pt x="9500" y="12402"/>
                </a:cubicBezTo>
                <a:cubicBezTo>
                  <a:pt x="9402" y="12434"/>
                  <a:pt x="9274" y="12442"/>
                  <a:pt x="9178" y="12402"/>
                </a:cubicBezTo>
                <a:cubicBezTo>
                  <a:pt x="9121" y="12378"/>
                  <a:pt x="9093" y="12254"/>
                  <a:pt x="9103" y="12204"/>
                </a:cubicBezTo>
                <a:cubicBezTo>
                  <a:pt x="9135" y="12140"/>
                  <a:pt x="9147" y="12109"/>
                  <a:pt x="9153" y="12055"/>
                </a:cubicBezTo>
              </a:path>
              <a:path w="7938" h="4714">
                <a:moveTo>
                  <a:pt x="10170" y="11460"/>
                </a:moveTo>
                <a:cubicBezTo>
                  <a:pt x="10122" y="11546"/>
                  <a:pt x="9996" y="11704"/>
                  <a:pt x="9971" y="11807"/>
                </a:cubicBezTo>
                <a:cubicBezTo>
                  <a:pt x="9949" y="11897"/>
                  <a:pt x="9965" y="12045"/>
                  <a:pt x="9996" y="12129"/>
                </a:cubicBezTo>
                <a:cubicBezTo>
                  <a:pt x="10028" y="12215"/>
                  <a:pt x="10149" y="12321"/>
                  <a:pt x="10220" y="12378"/>
                </a:cubicBezTo>
                <a:cubicBezTo>
                  <a:pt x="10325" y="12462"/>
                  <a:pt x="10388" y="12477"/>
                  <a:pt x="10517" y="12477"/>
                </a:cubicBezTo>
                <a:cubicBezTo>
                  <a:pt x="10600" y="12477"/>
                  <a:pt x="10667" y="12448"/>
                  <a:pt x="10716" y="12378"/>
                </a:cubicBezTo>
                <a:cubicBezTo>
                  <a:pt x="10752" y="12327"/>
                  <a:pt x="10755" y="12213"/>
                  <a:pt x="10740" y="12154"/>
                </a:cubicBezTo>
                <a:cubicBezTo>
                  <a:pt x="10721" y="12080"/>
                  <a:pt x="10693" y="12007"/>
                  <a:pt x="10616" y="11981"/>
                </a:cubicBezTo>
                <a:cubicBezTo>
                  <a:pt x="10517" y="11948"/>
                  <a:pt x="10434" y="11968"/>
                  <a:pt x="10368" y="12055"/>
                </a:cubicBezTo>
                <a:cubicBezTo>
                  <a:pt x="10309" y="12133"/>
                  <a:pt x="10307" y="12261"/>
                  <a:pt x="10319" y="12353"/>
                </a:cubicBezTo>
                <a:cubicBezTo>
                  <a:pt x="10336" y="12486"/>
                  <a:pt x="10377" y="12622"/>
                  <a:pt x="10418" y="12750"/>
                </a:cubicBezTo>
                <a:cubicBezTo>
                  <a:pt x="10448" y="12843"/>
                  <a:pt x="10484" y="12876"/>
                  <a:pt x="10567" y="12849"/>
                </a:cubicBezTo>
                <a:cubicBezTo>
                  <a:pt x="10592" y="12841"/>
                  <a:pt x="10616" y="12832"/>
                  <a:pt x="10641" y="12824"/>
                </a:cubicBezTo>
              </a:path>
              <a:path w="7938" h="4714">
                <a:moveTo>
                  <a:pt x="11237" y="11584"/>
                </a:moveTo>
                <a:cubicBezTo>
                  <a:pt x="11242" y="11254"/>
                  <a:pt x="11289" y="10980"/>
                  <a:pt x="11187" y="10666"/>
                </a:cubicBezTo>
                <a:cubicBezTo>
                  <a:pt x="11113" y="10437"/>
                  <a:pt x="11019" y="10200"/>
                  <a:pt x="10889" y="9996"/>
                </a:cubicBezTo>
                <a:cubicBezTo>
                  <a:pt x="10737" y="9756"/>
                  <a:pt x="10554" y="9543"/>
                  <a:pt x="10344" y="9351"/>
                </a:cubicBezTo>
                <a:cubicBezTo>
                  <a:pt x="10053" y="9085"/>
                  <a:pt x="9769" y="8928"/>
                  <a:pt x="9401" y="8781"/>
                </a:cubicBezTo>
                <a:cubicBezTo>
                  <a:pt x="9115" y="8667"/>
                  <a:pt x="8813" y="8615"/>
                  <a:pt x="8508" y="8607"/>
                </a:cubicBezTo>
                <a:cubicBezTo>
                  <a:pt x="8205" y="8599"/>
                  <a:pt x="7958" y="8633"/>
                  <a:pt x="7665" y="8706"/>
                </a:cubicBezTo>
                <a:cubicBezTo>
                  <a:pt x="7421" y="8767"/>
                  <a:pt x="7128" y="8856"/>
                  <a:pt x="6921" y="9004"/>
                </a:cubicBezTo>
                <a:cubicBezTo>
                  <a:pt x="6725" y="9144"/>
                  <a:pt x="6510" y="9408"/>
                  <a:pt x="6400" y="9624"/>
                </a:cubicBezTo>
                <a:cubicBezTo>
                  <a:pt x="6264" y="9890"/>
                  <a:pt x="6229" y="10202"/>
                  <a:pt x="6251" y="10492"/>
                </a:cubicBezTo>
                <a:cubicBezTo>
                  <a:pt x="6270" y="10743"/>
                  <a:pt x="6390" y="11017"/>
                  <a:pt x="6499" y="11237"/>
                </a:cubicBezTo>
                <a:cubicBezTo>
                  <a:pt x="6640" y="11523"/>
                  <a:pt x="6865" y="11786"/>
                  <a:pt x="7094" y="12005"/>
                </a:cubicBezTo>
                <a:cubicBezTo>
                  <a:pt x="7301" y="12204"/>
                  <a:pt x="7523" y="12369"/>
                  <a:pt x="7764" y="12526"/>
                </a:cubicBezTo>
                <a:cubicBezTo>
                  <a:pt x="8198" y="12810"/>
                  <a:pt x="8658" y="12985"/>
                  <a:pt x="9153" y="13122"/>
                </a:cubicBezTo>
                <a:cubicBezTo>
                  <a:pt x="9463" y="13208"/>
                  <a:pt x="9751" y="13260"/>
                  <a:pt x="10071" y="13295"/>
                </a:cubicBezTo>
                <a:cubicBezTo>
                  <a:pt x="10335" y="13324"/>
                  <a:pt x="10587" y="13326"/>
                  <a:pt x="10815" y="13171"/>
                </a:cubicBezTo>
                <a:cubicBezTo>
                  <a:pt x="11017" y="13034"/>
                  <a:pt x="11264" y="12812"/>
                  <a:pt x="11361" y="12576"/>
                </a:cubicBezTo>
                <a:cubicBezTo>
                  <a:pt x="11475" y="12297"/>
                  <a:pt x="11531" y="12032"/>
                  <a:pt x="11509" y="11733"/>
                </a:cubicBezTo>
                <a:cubicBezTo>
                  <a:pt x="11482" y="11370"/>
                  <a:pt x="11335" y="11019"/>
                  <a:pt x="11137" y="10716"/>
                </a:cubicBezTo>
                <a:cubicBezTo>
                  <a:pt x="10609" y="9908"/>
                  <a:pt x="9584" y="9296"/>
                  <a:pt x="8607" y="9525"/>
                </a:cubicBezTo>
                <a:cubicBezTo>
                  <a:pt x="8549" y="9542"/>
                  <a:pt x="8492" y="9558"/>
                  <a:pt x="8434" y="95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ages 682-684</a:t>
            </a:r>
            <a:br>
              <a:rPr sz="7500"/>
            </a:b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#21-27,35-37,45,51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tually Exclus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1905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o events from same sample space with no outcomes in comm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 calculate, find each probability and add togeth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card is selected from a deck of 52.  What is the probability that it is red or a cl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60720" y="2660760"/>
            <a:ext cx="2840040" cy="1733400"/>
          </a:xfrm>
          <a:custGeom>
            <a:avLst/>
            <a:gdLst/>
            <a:ahLst/>
            <a:rect l="l" t="t" r="r" b="b"/>
            <a:pathLst>
              <a:path w="7889" h="4813">
                <a:moveTo>
                  <a:pt x="6921" y="8037"/>
                </a:moveTo>
                <a:cubicBezTo>
                  <a:pt x="6911" y="8076"/>
                  <a:pt x="6896" y="8091"/>
                  <a:pt x="6896" y="8136"/>
                </a:cubicBezTo>
                <a:cubicBezTo>
                  <a:pt x="6896" y="8195"/>
                  <a:pt x="6875" y="8230"/>
                  <a:pt x="6871" y="8285"/>
                </a:cubicBezTo>
                <a:cubicBezTo>
                  <a:pt x="6866" y="8355"/>
                  <a:pt x="6846" y="8409"/>
                  <a:pt x="6846" y="8483"/>
                </a:cubicBezTo>
                <a:cubicBezTo>
                  <a:pt x="6846" y="8629"/>
                  <a:pt x="6831" y="8800"/>
                  <a:pt x="6871" y="8930"/>
                </a:cubicBezTo>
                <a:cubicBezTo>
                  <a:pt x="6879" y="8957"/>
                  <a:pt x="6871" y="9001"/>
                  <a:pt x="6871" y="9029"/>
                </a:cubicBezTo>
              </a:path>
              <a:path w="7889" h="4813">
                <a:moveTo>
                  <a:pt x="6003" y="9302"/>
                </a:moveTo>
                <a:cubicBezTo>
                  <a:pt x="6129" y="9302"/>
                  <a:pt x="6229" y="9282"/>
                  <a:pt x="6350" y="9277"/>
                </a:cubicBezTo>
                <a:cubicBezTo>
                  <a:pt x="6472" y="9272"/>
                  <a:pt x="6578" y="9288"/>
                  <a:pt x="6697" y="9302"/>
                </a:cubicBezTo>
                <a:cubicBezTo>
                  <a:pt x="6804" y="9315"/>
                  <a:pt x="6918" y="9313"/>
                  <a:pt x="7020" y="9327"/>
                </a:cubicBezTo>
                <a:cubicBezTo>
                  <a:pt x="7047" y="9331"/>
                  <a:pt x="7217" y="9327"/>
                  <a:pt x="7169" y="9327"/>
                </a:cubicBezTo>
                <a:cubicBezTo>
                  <a:pt x="7161" y="9327"/>
                  <a:pt x="7152" y="9327"/>
                  <a:pt x="7144" y="9327"/>
                </a:cubicBezTo>
              </a:path>
              <a:path w="7889" h="4813">
                <a:moveTo>
                  <a:pt x="6548" y="9847"/>
                </a:moveTo>
                <a:cubicBezTo>
                  <a:pt x="6528" y="9888"/>
                  <a:pt x="6531" y="9905"/>
                  <a:pt x="6499" y="9897"/>
                </a:cubicBezTo>
                <a:cubicBezTo>
                  <a:pt x="6505" y="9882"/>
                  <a:pt x="6515" y="9808"/>
                  <a:pt x="6524" y="9798"/>
                </a:cubicBezTo>
                <a:cubicBezTo>
                  <a:pt x="6543" y="9778"/>
                  <a:pt x="6595" y="9731"/>
                  <a:pt x="6623" y="9723"/>
                </a:cubicBezTo>
                <a:cubicBezTo>
                  <a:pt x="6677" y="9707"/>
                  <a:pt x="6782" y="9716"/>
                  <a:pt x="6821" y="9748"/>
                </a:cubicBezTo>
                <a:cubicBezTo>
                  <a:pt x="6865" y="9783"/>
                  <a:pt x="6885" y="9819"/>
                  <a:pt x="6896" y="9872"/>
                </a:cubicBezTo>
                <a:cubicBezTo>
                  <a:pt x="6908" y="9933"/>
                  <a:pt x="6935" y="10006"/>
                  <a:pt x="6921" y="10071"/>
                </a:cubicBezTo>
                <a:cubicBezTo>
                  <a:pt x="6901" y="10164"/>
                  <a:pt x="6877" y="10252"/>
                  <a:pt x="6846" y="10344"/>
                </a:cubicBezTo>
                <a:cubicBezTo>
                  <a:pt x="6815" y="10437"/>
                  <a:pt x="6785" y="10517"/>
                  <a:pt x="6722" y="10592"/>
                </a:cubicBezTo>
                <a:cubicBezTo>
                  <a:pt x="6669" y="10655"/>
                  <a:pt x="6575" y="10732"/>
                  <a:pt x="6499" y="10765"/>
                </a:cubicBezTo>
                <a:cubicBezTo>
                  <a:pt x="6419" y="10800"/>
                  <a:pt x="6362" y="10815"/>
                  <a:pt x="6276" y="10815"/>
                </a:cubicBezTo>
                <a:cubicBezTo>
                  <a:pt x="6186" y="10815"/>
                  <a:pt x="6152" y="10799"/>
                  <a:pt x="6127" y="10716"/>
                </a:cubicBezTo>
                <a:cubicBezTo>
                  <a:pt x="6115" y="10676"/>
                  <a:pt x="6132" y="10625"/>
                  <a:pt x="6152" y="10592"/>
                </a:cubicBezTo>
                <a:cubicBezTo>
                  <a:pt x="6188" y="10533"/>
                  <a:pt x="6267" y="10493"/>
                  <a:pt x="6325" y="10468"/>
                </a:cubicBezTo>
                <a:cubicBezTo>
                  <a:pt x="6370" y="10449"/>
                  <a:pt x="6447" y="10428"/>
                  <a:pt x="6499" y="10443"/>
                </a:cubicBezTo>
                <a:cubicBezTo>
                  <a:pt x="6518" y="10448"/>
                  <a:pt x="6635" y="10503"/>
                  <a:pt x="6648" y="10517"/>
                </a:cubicBezTo>
                <a:cubicBezTo>
                  <a:pt x="6692" y="10565"/>
                  <a:pt x="6703" y="10639"/>
                  <a:pt x="6722" y="10691"/>
                </a:cubicBezTo>
                <a:cubicBezTo>
                  <a:pt x="6743" y="10749"/>
                  <a:pt x="6785" y="10816"/>
                  <a:pt x="6821" y="10864"/>
                </a:cubicBezTo>
                <a:cubicBezTo>
                  <a:pt x="6878" y="10939"/>
                  <a:pt x="6900" y="10932"/>
                  <a:pt x="6995" y="10939"/>
                </a:cubicBezTo>
              </a:path>
              <a:path w="7889" h="4813">
                <a:moveTo>
                  <a:pt x="9922" y="7938"/>
                </a:moveTo>
                <a:cubicBezTo>
                  <a:pt x="9900" y="7967"/>
                  <a:pt x="9879" y="8023"/>
                  <a:pt x="9872" y="8062"/>
                </a:cubicBezTo>
                <a:cubicBezTo>
                  <a:pt x="9820" y="8355"/>
                  <a:pt x="9856" y="8741"/>
                  <a:pt x="9897" y="9029"/>
                </a:cubicBezTo>
                <a:cubicBezTo>
                  <a:pt x="9908" y="9108"/>
                  <a:pt x="9922" y="9168"/>
                  <a:pt x="9922" y="9252"/>
                </a:cubicBezTo>
              </a:path>
              <a:path w="7889" h="4813">
                <a:moveTo>
                  <a:pt x="9128" y="9599"/>
                </a:moveTo>
                <a:cubicBezTo>
                  <a:pt x="9216" y="9591"/>
                  <a:pt x="9285" y="9575"/>
                  <a:pt x="9376" y="9575"/>
                </a:cubicBezTo>
                <a:cubicBezTo>
                  <a:pt x="9590" y="9575"/>
                  <a:pt x="9822" y="9563"/>
                  <a:pt x="10021" y="9599"/>
                </a:cubicBezTo>
                <a:cubicBezTo>
                  <a:pt x="10050" y="9604"/>
                  <a:pt x="10090" y="9599"/>
                  <a:pt x="10120" y="9599"/>
                </a:cubicBezTo>
              </a:path>
              <a:path w="7889" h="4813">
                <a:moveTo>
                  <a:pt x="9550" y="9947"/>
                </a:moveTo>
                <a:cubicBezTo>
                  <a:pt x="9517" y="9994"/>
                  <a:pt x="9479" y="10054"/>
                  <a:pt x="9451" y="10096"/>
                </a:cubicBezTo>
                <a:cubicBezTo>
                  <a:pt x="9424" y="10135"/>
                  <a:pt x="9426" y="10145"/>
                  <a:pt x="9426" y="10195"/>
                </a:cubicBezTo>
                <a:cubicBezTo>
                  <a:pt x="9426" y="10233"/>
                  <a:pt x="9432" y="10260"/>
                  <a:pt x="9475" y="10269"/>
                </a:cubicBezTo>
                <a:cubicBezTo>
                  <a:pt x="9554" y="10286"/>
                  <a:pt x="9641" y="10310"/>
                  <a:pt x="9723" y="10319"/>
                </a:cubicBezTo>
                <a:cubicBezTo>
                  <a:pt x="9829" y="10331"/>
                  <a:pt x="9922" y="10356"/>
                  <a:pt x="10021" y="10319"/>
                </a:cubicBezTo>
              </a:path>
              <a:path w="7889" h="4813">
                <a:moveTo>
                  <a:pt x="9847" y="9947"/>
                </a:moveTo>
                <a:cubicBezTo>
                  <a:pt x="9827" y="10051"/>
                  <a:pt x="9808" y="10165"/>
                  <a:pt x="9798" y="10269"/>
                </a:cubicBezTo>
                <a:cubicBezTo>
                  <a:pt x="9784" y="10421"/>
                  <a:pt x="9811" y="10570"/>
                  <a:pt x="9823" y="10716"/>
                </a:cubicBezTo>
                <a:cubicBezTo>
                  <a:pt x="9833" y="10836"/>
                  <a:pt x="9832" y="10946"/>
                  <a:pt x="9847" y="11063"/>
                </a:cubicBezTo>
                <a:cubicBezTo>
                  <a:pt x="9854" y="11117"/>
                  <a:pt x="9847" y="11145"/>
                  <a:pt x="9823" y="11187"/>
                </a:cubicBezTo>
              </a:path>
              <a:path w="7889" h="4813">
                <a:moveTo>
                  <a:pt x="8136" y="8855"/>
                </a:moveTo>
                <a:cubicBezTo>
                  <a:pt x="8136" y="8936"/>
                  <a:pt x="8150" y="9001"/>
                  <a:pt x="8161" y="9079"/>
                </a:cubicBezTo>
                <a:cubicBezTo>
                  <a:pt x="8177" y="9193"/>
                  <a:pt x="8197" y="9310"/>
                  <a:pt x="8210" y="9426"/>
                </a:cubicBezTo>
                <a:cubicBezTo>
                  <a:pt x="8223" y="9543"/>
                  <a:pt x="8254" y="9654"/>
                  <a:pt x="8260" y="9773"/>
                </a:cubicBezTo>
                <a:cubicBezTo>
                  <a:pt x="8262" y="9817"/>
                  <a:pt x="8257" y="9811"/>
                  <a:pt x="8285" y="9847"/>
                </a:cubicBezTo>
              </a:path>
              <a:path w="7889" h="4813">
                <a:moveTo>
                  <a:pt x="7665" y="9426"/>
                </a:moveTo>
                <a:cubicBezTo>
                  <a:pt x="7779" y="9406"/>
                  <a:pt x="7871" y="9401"/>
                  <a:pt x="7987" y="9401"/>
                </a:cubicBezTo>
                <a:cubicBezTo>
                  <a:pt x="8119" y="9401"/>
                  <a:pt x="8252" y="9401"/>
                  <a:pt x="8384" y="9401"/>
                </a:cubicBezTo>
              </a:path>
              <a:path w="7889" h="4813">
                <a:moveTo>
                  <a:pt x="10468" y="9475"/>
                </a:moveTo>
                <a:cubicBezTo>
                  <a:pt x="10495" y="9455"/>
                  <a:pt x="10557" y="9431"/>
                  <a:pt x="10592" y="9426"/>
                </a:cubicBezTo>
                <a:cubicBezTo>
                  <a:pt x="10688" y="9413"/>
                  <a:pt x="10773" y="9439"/>
                  <a:pt x="10864" y="9451"/>
                </a:cubicBezTo>
                <a:cubicBezTo>
                  <a:pt x="10914" y="9451"/>
                  <a:pt x="10931" y="9451"/>
                  <a:pt x="10964" y="9451"/>
                </a:cubicBezTo>
              </a:path>
              <a:path w="7889" h="4813">
                <a:moveTo>
                  <a:pt x="10492" y="9847"/>
                </a:moveTo>
                <a:cubicBezTo>
                  <a:pt x="10580" y="9822"/>
                  <a:pt x="10647" y="9823"/>
                  <a:pt x="10740" y="9823"/>
                </a:cubicBezTo>
                <a:cubicBezTo>
                  <a:pt x="10831" y="9823"/>
                  <a:pt x="10905" y="9830"/>
                  <a:pt x="10988" y="9798"/>
                </a:cubicBezTo>
              </a:path>
              <a:path w="7889" h="4813">
                <a:moveTo>
                  <a:pt x="11857" y="8533"/>
                </a:moveTo>
                <a:cubicBezTo>
                  <a:pt x="11832" y="8533"/>
                  <a:pt x="11824" y="8533"/>
                  <a:pt x="11807" y="8533"/>
                </a:cubicBezTo>
                <a:cubicBezTo>
                  <a:pt x="11817" y="8517"/>
                  <a:pt x="11818" y="8473"/>
                  <a:pt x="11832" y="8458"/>
                </a:cubicBezTo>
                <a:cubicBezTo>
                  <a:pt x="11841" y="8448"/>
                  <a:pt x="11911" y="8397"/>
                  <a:pt x="11931" y="8384"/>
                </a:cubicBezTo>
                <a:cubicBezTo>
                  <a:pt x="11982" y="8351"/>
                  <a:pt x="12026" y="8314"/>
                  <a:pt x="12080" y="8285"/>
                </a:cubicBezTo>
                <a:cubicBezTo>
                  <a:pt x="12133" y="8257"/>
                  <a:pt x="12197" y="8238"/>
                  <a:pt x="12254" y="8235"/>
                </a:cubicBezTo>
                <a:cubicBezTo>
                  <a:pt x="12350" y="8231"/>
                  <a:pt x="12402" y="8216"/>
                  <a:pt x="12402" y="8334"/>
                </a:cubicBezTo>
                <a:cubicBezTo>
                  <a:pt x="12402" y="8385"/>
                  <a:pt x="12326" y="8471"/>
                  <a:pt x="12303" y="8508"/>
                </a:cubicBezTo>
                <a:cubicBezTo>
                  <a:pt x="12268" y="8565"/>
                  <a:pt x="12196" y="8625"/>
                  <a:pt x="12179" y="8682"/>
                </a:cubicBezTo>
                <a:cubicBezTo>
                  <a:pt x="12160" y="8744"/>
                  <a:pt x="12155" y="8756"/>
                  <a:pt x="12105" y="8806"/>
                </a:cubicBezTo>
                <a:cubicBezTo>
                  <a:pt x="12097" y="8814"/>
                  <a:pt x="12088" y="8822"/>
                  <a:pt x="12080" y="8830"/>
                </a:cubicBezTo>
                <a:cubicBezTo>
                  <a:pt x="12120" y="8791"/>
                  <a:pt x="12153" y="8743"/>
                  <a:pt x="12204" y="8731"/>
                </a:cubicBezTo>
                <a:cubicBezTo>
                  <a:pt x="12249" y="8720"/>
                  <a:pt x="12295" y="8729"/>
                  <a:pt x="12328" y="8756"/>
                </a:cubicBezTo>
                <a:cubicBezTo>
                  <a:pt x="12377" y="8795"/>
                  <a:pt x="12421" y="8827"/>
                  <a:pt x="12452" y="8880"/>
                </a:cubicBezTo>
                <a:cubicBezTo>
                  <a:pt x="12490" y="8944"/>
                  <a:pt x="12522" y="9006"/>
                  <a:pt x="12526" y="9079"/>
                </a:cubicBezTo>
                <a:cubicBezTo>
                  <a:pt x="12529" y="9144"/>
                  <a:pt x="12542" y="9227"/>
                  <a:pt x="12502" y="9277"/>
                </a:cubicBezTo>
                <a:cubicBezTo>
                  <a:pt x="12427" y="9370"/>
                  <a:pt x="12335" y="9365"/>
                  <a:pt x="12229" y="9401"/>
                </a:cubicBezTo>
                <a:cubicBezTo>
                  <a:pt x="12162" y="9423"/>
                  <a:pt x="12101" y="9447"/>
                  <a:pt x="12030" y="9451"/>
                </a:cubicBezTo>
                <a:cubicBezTo>
                  <a:pt x="11973" y="9454"/>
                  <a:pt x="11941" y="9471"/>
                  <a:pt x="11881" y="9475"/>
                </a:cubicBezTo>
                <a:cubicBezTo>
                  <a:pt x="11873" y="9475"/>
                  <a:pt x="11865" y="9475"/>
                  <a:pt x="11857" y="9475"/>
                </a:cubicBezTo>
              </a:path>
              <a:path w="7889" h="4813">
                <a:moveTo>
                  <a:pt x="11559" y="9575"/>
                </a:moveTo>
                <a:cubicBezTo>
                  <a:pt x="11635" y="9602"/>
                  <a:pt x="11700" y="9621"/>
                  <a:pt x="11782" y="9624"/>
                </a:cubicBezTo>
                <a:cubicBezTo>
                  <a:pt x="12039" y="9634"/>
                  <a:pt x="12352" y="9661"/>
                  <a:pt x="12601" y="9599"/>
                </a:cubicBezTo>
              </a:path>
              <a:path w="7889" h="4813">
                <a:moveTo>
                  <a:pt x="12278" y="9922"/>
                </a:moveTo>
                <a:cubicBezTo>
                  <a:pt x="12192" y="10014"/>
                  <a:pt x="12105" y="10105"/>
                  <a:pt x="12030" y="10195"/>
                </a:cubicBezTo>
                <a:cubicBezTo>
                  <a:pt x="12000" y="10231"/>
                  <a:pt x="11961" y="10274"/>
                  <a:pt x="11956" y="10319"/>
                </a:cubicBezTo>
                <a:cubicBezTo>
                  <a:pt x="11950" y="10377"/>
                  <a:pt x="11969" y="10369"/>
                  <a:pt x="12005" y="10393"/>
                </a:cubicBezTo>
                <a:cubicBezTo>
                  <a:pt x="12058" y="10429"/>
                  <a:pt x="12118" y="10423"/>
                  <a:pt x="12179" y="10443"/>
                </a:cubicBezTo>
                <a:cubicBezTo>
                  <a:pt x="12263" y="10471"/>
                  <a:pt x="12362" y="10480"/>
                  <a:pt x="12452" y="10492"/>
                </a:cubicBezTo>
                <a:cubicBezTo>
                  <a:pt x="12504" y="10492"/>
                  <a:pt x="12522" y="10491"/>
                  <a:pt x="12551" y="10468"/>
                </a:cubicBezTo>
              </a:path>
              <a:path w="7889" h="4813">
                <a:moveTo>
                  <a:pt x="12452" y="10096"/>
                </a:moveTo>
                <a:cubicBezTo>
                  <a:pt x="12434" y="10221"/>
                  <a:pt x="12407" y="10344"/>
                  <a:pt x="12402" y="10468"/>
                </a:cubicBezTo>
                <a:cubicBezTo>
                  <a:pt x="12390" y="10778"/>
                  <a:pt x="12385" y="11107"/>
                  <a:pt x="12427" y="11410"/>
                </a:cubicBezTo>
                <a:cubicBezTo>
                  <a:pt x="12427" y="11413"/>
                  <a:pt x="12422" y="11574"/>
                  <a:pt x="12452" y="11534"/>
                </a:cubicBezTo>
                <a:cubicBezTo>
                  <a:pt x="12452" y="11526"/>
                  <a:pt x="12452" y="11517"/>
                  <a:pt x="12452" y="11509"/>
                </a:cubicBezTo>
              </a:path>
              <a:path w="7889" h="4813">
                <a:moveTo>
                  <a:pt x="12973" y="8086"/>
                </a:moveTo>
                <a:cubicBezTo>
                  <a:pt x="12880" y="7902"/>
                  <a:pt x="12794" y="7743"/>
                  <a:pt x="12626" y="7615"/>
                </a:cubicBezTo>
                <a:cubicBezTo>
                  <a:pt x="12504" y="7522"/>
                  <a:pt x="12407" y="7458"/>
                  <a:pt x="12254" y="7417"/>
                </a:cubicBezTo>
                <a:cubicBezTo>
                  <a:pt x="12123" y="7382"/>
                  <a:pt x="11989" y="7379"/>
                  <a:pt x="11857" y="7417"/>
                </a:cubicBezTo>
                <a:cubicBezTo>
                  <a:pt x="11736" y="7451"/>
                  <a:pt x="11593" y="7527"/>
                  <a:pt x="11509" y="7615"/>
                </a:cubicBezTo>
                <a:cubicBezTo>
                  <a:pt x="11373" y="7756"/>
                  <a:pt x="11320" y="7939"/>
                  <a:pt x="11237" y="8111"/>
                </a:cubicBezTo>
                <a:cubicBezTo>
                  <a:pt x="11148" y="8295"/>
                  <a:pt x="11098" y="8427"/>
                  <a:pt x="11063" y="8632"/>
                </a:cubicBezTo>
                <a:cubicBezTo>
                  <a:pt x="11018" y="8898"/>
                  <a:pt x="11013" y="9134"/>
                  <a:pt x="11013" y="9401"/>
                </a:cubicBezTo>
                <a:cubicBezTo>
                  <a:pt x="11013" y="9614"/>
                  <a:pt x="11031" y="9810"/>
                  <a:pt x="11063" y="10021"/>
                </a:cubicBezTo>
                <a:cubicBezTo>
                  <a:pt x="11098" y="10255"/>
                  <a:pt x="11138" y="10446"/>
                  <a:pt x="11212" y="10666"/>
                </a:cubicBezTo>
                <a:cubicBezTo>
                  <a:pt x="11285" y="10882"/>
                  <a:pt x="11354" y="11060"/>
                  <a:pt x="11460" y="11261"/>
                </a:cubicBezTo>
                <a:cubicBezTo>
                  <a:pt x="11548" y="11427"/>
                  <a:pt x="11625" y="11620"/>
                  <a:pt x="11757" y="11757"/>
                </a:cubicBezTo>
                <a:cubicBezTo>
                  <a:pt x="11882" y="11887"/>
                  <a:pt x="12044" y="12023"/>
                  <a:pt x="12204" y="12105"/>
                </a:cubicBezTo>
                <a:cubicBezTo>
                  <a:pt x="12310" y="12159"/>
                  <a:pt x="12506" y="12202"/>
                  <a:pt x="12626" y="12204"/>
                </a:cubicBezTo>
                <a:cubicBezTo>
                  <a:pt x="12732" y="12205"/>
                  <a:pt x="12952" y="12176"/>
                  <a:pt x="13047" y="12129"/>
                </a:cubicBezTo>
                <a:cubicBezTo>
                  <a:pt x="13161" y="12072"/>
                  <a:pt x="13281" y="11951"/>
                  <a:pt x="13370" y="11857"/>
                </a:cubicBezTo>
                <a:cubicBezTo>
                  <a:pt x="13474" y="11747"/>
                  <a:pt x="13570" y="11640"/>
                  <a:pt x="13643" y="11509"/>
                </a:cubicBezTo>
                <a:cubicBezTo>
                  <a:pt x="13742" y="11332"/>
                  <a:pt x="13797" y="11135"/>
                  <a:pt x="13841" y="10939"/>
                </a:cubicBezTo>
                <a:cubicBezTo>
                  <a:pt x="13881" y="10760"/>
                  <a:pt x="13891" y="10601"/>
                  <a:pt x="13891" y="10418"/>
                </a:cubicBezTo>
                <a:cubicBezTo>
                  <a:pt x="13891" y="10186"/>
                  <a:pt x="13855" y="9976"/>
                  <a:pt x="13841" y="9748"/>
                </a:cubicBezTo>
                <a:cubicBezTo>
                  <a:pt x="13831" y="9587"/>
                  <a:pt x="13791" y="9409"/>
                  <a:pt x="13742" y="9252"/>
                </a:cubicBezTo>
                <a:cubicBezTo>
                  <a:pt x="13688" y="9079"/>
                  <a:pt x="13618" y="8943"/>
                  <a:pt x="13543" y="8781"/>
                </a:cubicBezTo>
                <a:cubicBezTo>
                  <a:pt x="13475" y="8634"/>
                  <a:pt x="13404" y="8477"/>
                  <a:pt x="13295" y="8359"/>
                </a:cubicBezTo>
                <a:cubicBezTo>
                  <a:pt x="13162" y="8214"/>
                  <a:pt x="13008" y="8126"/>
                  <a:pt x="12849" y="8012"/>
                </a:cubicBezTo>
                <a:cubicBezTo>
                  <a:pt x="12667" y="7882"/>
                  <a:pt x="12547" y="7847"/>
                  <a:pt x="12328" y="77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rious Types of Prob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on Prob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events from the sample space where overlap does occ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alculate, find probability of each event and add them, then subtract probability of their overl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deck of 52 cards, find the probability a card is a heart or an 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4280" y="2473200"/>
            <a:ext cx="509760" cy="876600"/>
          </a:xfrm>
          <a:custGeom>
            <a:avLst/>
            <a:gdLst/>
            <a:ahLst/>
            <a:rect l="l" t="t" r="r" b="b"/>
            <a:pathLst>
              <a:path w="1415" h="2432">
                <a:moveTo>
                  <a:pt x="3994" y="6871"/>
                </a:moveTo>
                <a:lnTo>
                  <a:pt x="3994" y="6871"/>
                </a:lnTo>
              </a:path>
              <a:path w="1415" h="2432">
                <a:moveTo>
                  <a:pt x="3994" y="6871"/>
                </a:moveTo>
                <a:cubicBezTo>
                  <a:pt x="3994" y="6896"/>
                  <a:pt x="3994" y="6920"/>
                  <a:pt x="3994" y="6945"/>
                </a:cubicBezTo>
              </a:path>
              <a:path w="1415" h="2432">
                <a:moveTo>
                  <a:pt x="3994" y="6945"/>
                </a:moveTo>
                <a:cubicBezTo>
                  <a:pt x="3972" y="7026"/>
                  <a:pt x="3969" y="7085"/>
                  <a:pt x="3969" y="7169"/>
                </a:cubicBezTo>
                <a:cubicBezTo>
                  <a:pt x="3969" y="7353"/>
                  <a:pt x="3978" y="7535"/>
                  <a:pt x="3944" y="7714"/>
                </a:cubicBezTo>
                <a:cubicBezTo>
                  <a:pt x="3935" y="7764"/>
                  <a:pt x="3951" y="7771"/>
                  <a:pt x="3919" y="7813"/>
                </a:cubicBezTo>
              </a:path>
              <a:path w="1415" h="2432">
                <a:moveTo>
                  <a:pt x="3373" y="8086"/>
                </a:moveTo>
                <a:cubicBezTo>
                  <a:pt x="3502" y="8086"/>
                  <a:pt x="3621" y="8073"/>
                  <a:pt x="3746" y="8062"/>
                </a:cubicBezTo>
                <a:cubicBezTo>
                  <a:pt x="3921" y="8047"/>
                  <a:pt x="4095" y="8074"/>
                  <a:pt x="4266" y="8086"/>
                </a:cubicBezTo>
                <a:cubicBezTo>
                  <a:pt x="4448" y="8099"/>
                  <a:pt x="4944" y="8086"/>
                  <a:pt x="4762" y="8086"/>
                </a:cubicBezTo>
              </a:path>
              <a:path w="1415" h="2432">
                <a:moveTo>
                  <a:pt x="3646" y="8533"/>
                </a:moveTo>
                <a:cubicBezTo>
                  <a:pt x="3617" y="8587"/>
                  <a:pt x="3578" y="8660"/>
                  <a:pt x="3547" y="8706"/>
                </a:cubicBezTo>
                <a:cubicBezTo>
                  <a:pt x="3520" y="8746"/>
                  <a:pt x="3508" y="8774"/>
                  <a:pt x="3572" y="8781"/>
                </a:cubicBezTo>
                <a:cubicBezTo>
                  <a:pt x="3617" y="8786"/>
                  <a:pt x="3642" y="8806"/>
                  <a:pt x="3696" y="8806"/>
                </a:cubicBezTo>
                <a:cubicBezTo>
                  <a:pt x="3770" y="8806"/>
                  <a:pt x="3826" y="8819"/>
                  <a:pt x="3894" y="8830"/>
                </a:cubicBezTo>
                <a:cubicBezTo>
                  <a:pt x="3964" y="8841"/>
                  <a:pt x="4046" y="8830"/>
                  <a:pt x="4118" y="8830"/>
                </a:cubicBezTo>
              </a:path>
              <a:path w="1415" h="2432">
                <a:moveTo>
                  <a:pt x="4018" y="8458"/>
                </a:moveTo>
                <a:cubicBezTo>
                  <a:pt x="4018" y="8645"/>
                  <a:pt x="4021" y="8826"/>
                  <a:pt x="4043" y="9004"/>
                </a:cubicBezTo>
                <a:cubicBezTo>
                  <a:pt x="4053" y="9085"/>
                  <a:pt x="4066" y="9238"/>
                  <a:pt x="4018" y="93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98720" y="3751200"/>
            <a:ext cx="374400" cy="571680"/>
          </a:xfrm>
          <a:custGeom>
            <a:avLst/>
            <a:gdLst/>
            <a:ahLst/>
            <a:rect l="l" t="t" r="r" b="b"/>
            <a:pathLst>
              <a:path w="1043" h="1588">
                <a:moveTo>
                  <a:pt x="3572" y="11559"/>
                </a:moveTo>
                <a:cubicBezTo>
                  <a:pt x="3566" y="11680"/>
                  <a:pt x="3547" y="11786"/>
                  <a:pt x="3547" y="11906"/>
                </a:cubicBezTo>
                <a:cubicBezTo>
                  <a:pt x="3547" y="11939"/>
                  <a:pt x="3547" y="11972"/>
                  <a:pt x="3547" y="12005"/>
                </a:cubicBezTo>
              </a:path>
              <a:path w="1043" h="1588">
                <a:moveTo>
                  <a:pt x="3051" y="11137"/>
                </a:moveTo>
                <a:cubicBezTo>
                  <a:pt x="3060" y="11072"/>
                  <a:pt x="3077" y="11060"/>
                  <a:pt x="3125" y="11013"/>
                </a:cubicBezTo>
                <a:cubicBezTo>
                  <a:pt x="3198" y="10940"/>
                  <a:pt x="3267" y="10907"/>
                  <a:pt x="3324" y="10815"/>
                </a:cubicBezTo>
                <a:cubicBezTo>
                  <a:pt x="3371" y="10739"/>
                  <a:pt x="3430" y="10670"/>
                  <a:pt x="3473" y="10592"/>
                </a:cubicBezTo>
                <a:cubicBezTo>
                  <a:pt x="3501" y="10541"/>
                  <a:pt x="3495" y="10486"/>
                  <a:pt x="3522" y="10443"/>
                </a:cubicBezTo>
                <a:cubicBezTo>
                  <a:pt x="3530" y="10435"/>
                  <a:pt x="3539" y="10426"/>
                  <a:pt x="3547" y="10418"/>
                </a:cubicBezTo>
                <a:cubicBezTo>
                  <a:pt x="3555" y="10476"/>
                  <a:pt x="3566" y="10468"/>
                  <a:pt x="3597" y="10517"/>
                </a:cubicBezTo>
                <a:cubicBezTo>
                  <a:pt x="3635" y="10578"/>
                  <a:pt x="3663" y="10644"/>
                  <a:pt x="3721" y="10691"/>
                </a:cubicBezTo>
                <a:cubicBezTo>
                  <a:pt x="3808" y="10762"/>
                  <a:pt x="3896" y="10810"/>
                  <a:pt x="3994" y="10864"/>
                </a:cubicBezTo>
                <a:cubicBezTo>
                  <a:pt x="4043" y="10889"/>
                  <a:pt x="4060" y="10898"/>
                  <a:pt x="4093" y="109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080" y="4411800"/>
            <a:ext cx="689040" cy="463320"/>
          </a:xfrm>
          <a:custGeom>
            <a:avLst/>
            <a:gdLst/>
            <a:ahLst/>
            <a:rect l="l" t="t" r="r" b="b"/>
            <a:pathLst>
              <a:path w="1911" h="1290">
                <a:moveTo>
                  <a:pt x="2654" y="12254"/>
                </a:moveTo>
                <a:cubicBezTo>
                  <a:pt x="2654" y="12391"/>
                  <a:pt x="2636" y="12517"/>
                  <a:pt x="2629" y="12650"/>
                </a:cubicBezTo>
                <a:cubicBezTo>
                  <a:pt x="2621" y="12806"/>
                  <a:pt x="2629" y="12965"/>
                  <a:pt x="2629" y="13122"/>
                </a:cubicBezTo>
                <a:cubicBezTo>
                  <a:pt x="2629" y="13182"/>
                  <a:pt x="2629" y="13067"/>
                  <a:pt x="2629" y="13047"/>
                </a:cubicBezTo>
                <a:cubicBezTo>
                  <a:pt x="2629" y="12970"/>
                  <a:pt x="2633" y="12915"/>
                  <a:pt x="2679" y="12849"/>
                </a:cubicBezTo>
                <a:cubicBezTo>
                  <a:pt x="2707" y="12809"/>
                  <a:pt x="2754" y="12720"/>
                  <a:pt x="2803" y="12700"/>
                </a:cubicBezTo>
                <a:cubicBezTo>
                  <a:pt x="2853" y="12679"/>
                  <a:pt x="2907" y="12664"/>
                  <a:pt x="2952" y="12700"/>
                </a:cubicBezTo>
                <a:cubicBezTo>
                  <a:pt x="3024" y="12758"/>
                  <a:pt x="2981" y="12792"/>
                  <a:pt x="3001" y="12874"/>
                </a:cubicBezTo>
                <a:cubicBezTo>
                  <a:pt x="3022" y="12959"/>
                  <a:pt x="3026" y="13030"/>
                  <a:pt x="3026" y="13122"/>
                </a:cubicBezTo>
                <a:cubicBezTo>
                  <a:pt x="3026" y="13184"/>
                  <a:pt x="3021" y="13221"/>
                  <a:pt x="3051" y="13271"/>
                </a:cubicBezTo>
              </a:path>
              <a:path w="1911" h="1290">
                <a:moveTo>
                  <a:pt x="3125" y="13146"/>
                </a:moveTo>
                <a:cubicBezTo>
                  <a:pt x="3171" y="13106"/>
                  <a:pt x="3222" y="13055"/>
                  <a:pt x="3274" y="13022"/>
                </a:cubicBezTo>
                <a:cubicBezTo>
                  <a:pt x="3330" y="12987"/>
                  <a:pt x="3350" y="12945"/>
                  <a:pt x="3398" y="12898"/>
                </a:cubicBezTo>
                <a:cubicBezTo>
                  <a:pt x="3428" y="12868"/>
                  <a:pt x="3423" y="12864"/>
                  <a:pt x="3423" y="12824"/>
                </a:cubicBezTo>
                <a:cubicBezTo>
                  <a:pt x="3364" y="12780"/>
                  <a:pt x="3380" y="12812"/>
                  <a:pt x="3324" y="12824"/>
                </a:cubicBezTo>
                <a:cubicBezTo>
                  <a:pt x="3230" y="12844"/>
                  <a:pt x="3218" y="12870"/>
                  <a:pt x="3150" y="12948"/>
                </a:cubicBezTo>
                <a:cubicBezTo>
                  <a:pt x="3104" y="13001"/>
                  <a:pt x="3101" y="13030"/>
                  <a:pt x="3101" y="13097"/>
                </a:cubicBezTo>
                <a:cubicBezTo>
                  <a:pt x="3101" y="13166"/>
                  <a:pt x="3114" y="13207"/>
                  <a:pt x="3175" y="13246"/>
                </a:cubicBezTo>
                <a:cubicBezTo>
                  <a:pt x="3226" y="13279"/>
                  <a:pt x="3266" y="13271"/>
                  <a:pt x="3324" y="13271"/>
                </a:cubicBezTo>
              </a:path>
              <a:path w="1911" h="1290">
                <a:moveTo>
                  <a:pt x="3621" y="12948"/>
                </a:moveTo>
                <a:cubicBezTo>
                  <a:pt x="3599" y="12931"/>
                  <a:pt x="3556" y="12904"/>
                  <a:pt x="3522" y="12923"/>
                </a:cubicBezTo>
                <a:cubicBezTo>
                  <a:pt x="3473" y="12950"/>
                  <a:pt x="3465" y="13004"/>
                  <a:pt x="3448" y="13047"/>
                </a:cubicBezTo>
                <a:cubicBezTo>
                  <a:pt x="3433" y="13085"/>
                  <a:pt x="3401" y="13152"/>
                  <a:pt x="3423" y="13196"/>
                </a:cubicBezTo>
                <a:cubicBezTo>
                  <a:pt x="3441" y="13231"/>
                  <a:pt x="3455" y="13266"/>
                  <a:pt x="3497" y="13271"/>
                </a:cubicBezTo>
                <a:cubicBezTo>
                  <a:pt x="3537" y="13276"/>
                  <a:pt x="3579" y="13262"/>
                  <a:pt x="3597" y="13221"/>
                </a:cubicBezTo>
                <a:cubicBezTo>
                  <a:pt x="3616" y="13178"/>
                  <a:pt x="3621" y="13150"/>
                  <a:pt x="3621" y="13097"/>
                </a:cubicBezTo>
                <a:cubicBezTo>
                  <a:pt x="3621" y="13086"/>
                  <a:pt x="3621" y="12980"/>
                  <a:pt x="3621" y="13047"/>
                </a:cubicBezTo>
                <a:cubicBezTo>
                  <a:pt x="3621" y="13105"/>
                  <a:pt x="3610" y="13151"/>
                  <a:pt x="3646" y="13196"/>
                </a:cubicBezTo>
                <a:cubicBezTo>
                  <a:pt x="3672" y="13228"/>
                  <a:pt x="3684" y="13221"/>
                  <a:pt x="3721" y="13221"/>
                </a:cubicBezTo>
              </a:path>
              <a:path w="1911" h="1290">
                <a:moveTo>
                  <a:pt x="3870" y="13097"/>
                </a:moveTo>
                <a:cubicBezTo>
                  <a:pt x="3884" y="13179"/>
                  <a:pt x="3894" y="13240"/>
                  <a:pt x="3894" y="13320"/>
                </a:cubicBezTo>
                <a:cubicBezTo>
                  <a:pt x="3894" y="13387"/>
                  <a:pt x="3894" y="13283"/>
                  <a:pt x="3894" y="13271"/>
                </a:cubicBezTo>
                <a:cubicBezTo>
                  <a:pt x="3894" y="13217"/>
                  <a:pt x="3883" y="13185"/>
                  <a:pt x="3919" y="13146"/>
                </a:cubicBezTo>
                <a:cubicBezTo>
                  <a:pt x="3962" y="13098"/>
                  <a:pt x="4028" y="13013"/>
                  <a:pt x="4093" y="12998"/>
                </a:cubicBezTo>
                <a:cubicBezTo>
                  <a:pt x="4156" y="12998"/>
                  <a:pt x="4183" y="12990"/>
                  <a:pt x="4217" y="12948"/>
                </a:cubicBezTo>
              </a:path>
              <a:path w="1911" h="1290">
                <a:moveTo>
                  <a:pt x="4415" y="12898"/>
                </a:moveTo>
                <a:cubicBezTo>
                  <a:pt x="4415" y="13031"/>
                  <a:pt x="4396" y="13143"/>
                  <a:pt x="4390" y="13271"/>
                </a:cubicBezTo>
                <a:cubicBezTo>
                  <a:pt x="4387" y="13342"/>
                  <a:pt x="4337" y="13449"/>
                  <a:pt x="4366" y="13519"/>
                </a:cubicBezTo>
                <a:cubicBezTo>
                  <a:pt x="4374" y="13527"/>
                  <a:pt x="4382" y="13535"/>
                  <a:pt x="4390" y="13543"/>
                </a:cubicBezTo>
              </a:path>
              <a:path w="1911" h="1290">
                <a:moveTo>
                  <a:pt x="4192" y="13122"/>
                </a:moveTo>
                <a:cubicBezTo>
                  <a:pt x="4287" y="13122"/>
                  <a:pt x="4401" y="13152"/>
                  <a:pt x="4490" y="13146"/>
                </a:cubicBezTo>
                <a:cubicBezTo>
                  <a:pt x="4506" y="13138"/>
                  <a:pt x="4523" y="13130"/>
                  <a:pt x="4539" y="131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30240" y="2401920"/>
            <a:ext cx="669960" cy="955800"/>
          </a:xfrm>
          <a:custGeom>
            <a:avLst/>
            <a:gdLst/>
            <a:ahLst/>
            <a:rect l="l" t="t" r="r" b="b"/>
            <a:pathLst>
              <a:path w="1861" h="2656">
                <a:moveTo>
                  <a:pt x="5432" y="7789"/>
                </a:moveTo>
                <a:cubicBezTo>
                  <a:pt x="5459" y="7753"/>
                  <a:pt x="5449" y="7750"/>
                  <a:pt x="5482" y="7739"/>
                </a:cubicBezTo>
                <a:cubicBezTo>
                  <a:pt x="5482" y="7869"/>
                  <a:pt x="5487" y="7989"/>
                  <a:pt x="5507" y="8111"/>
                </a:cubicBezTo>
                <a:cubicBezTo>
                  <a:pt x="5519" y="8183"/>
                  <a:pt x="5501" y="8229"/>
                  <a:pt x="5482" y="8285"/>
                </a:cubicBezTo>
                <a:cubicBezTo>
                  <a:pt x="5475" y="8305"/>
                  <a:pt x="5471" y="8387"/>
                  <a:pt x="5432" y="8310"/>
                </a:cubicBezTo>
                <a:cubicBezTo>
                  <a:pt x="5432" y="8302"/>
                  <a:pt x="5432" y="8293"/>
                  <a:pt x="5432" y="8285"/>
                </a:cubicBezTo>
              </a:path>
              <a:path w="1861" h="2656">
                <a:moveTo>
                  <a:pt x="5085" y="8111"/>
                </a:moveTo>
                <a:cubicBezTo>
                  <a:pt x="5261" y="8111"/>
                  <a:pt x="5467" y="8141"/>
                  <a:pt x="5631" y="8086"/>
                </a:cubicBezTo>
              </a:path>
              <a:path w="1861" h="2656">
                <a:moveTo>
                  <a:pt x="6325" y="7293"/>
                </a:moveTo>
                <a:cubicBezTo>
                  <a:pt x="6412" y="7325"/>
                  <a:pt x="6417" y="7307"/>
                  <a:pt x="6499" y="7293"/>
                </a:cubicBezTo>
                <a:cubicBezTo>
                  <a:pt x="6548" y="7293"/>
                  <a:pt x="6565" y="7293"/>
                  <a:pt x="6598" y="7293"/>
                </a:cubicBezTo>
              </a:path>
              <a:path w="1861" h="2656">
                <a:moveTo>
                  <a:pt x="6648" y="6672"/>
                </a:moveTo>
                <a:cubicBezTo>
                  <a:pt x="6627" y="6797"/>
                  <a:pt x="6590" y="6920"/>
                  <a:pt x="6573" y="7045"/>
                </a:cubicBezTo>
                <a:cubicBezTo>
                  <a:pt x="6553" y="7191"/>
                  <a:pt x="6548" y="7343"/>
                  <a:pt x="6548" y="7491"/>
                </a:cubicBezTo>
                <a:cubicBezTo>
                  <a:pt x="6548" y="7585"/>
                  <a:pt x="6573" y="7670"/>
                  <a:pt x="6573" y="7764"/>
                </a:cubicBezTo>
                <a:cubicBezTo>
                  <a:pt x="6573" y="7796"/>
                  <a:pt x="6590" y="7808"/>
                  <a:pt x="6598" y="7838"/>
                </a:cubicBezTo>
              </a:path>
              <a:path w="1861" h="2656">
                <a:moveTo>
                  <a:pt x="6052" y="6747"/>
                </a:moveTo>
                <a:cubicBezTo>
                  <a:pt x="6052" y="6832"/>
                  <a:pt x="6020" y="6868"/>
                  <a:pt x="6003" y="6945"/>
                </a:cubicBezTo>
                <a:cubicBezTo>
                  <a:pt x="5992" y="6994"/>
                  <a:pt x="5978" y="7043"/>
                  <a:pt x="5978" y="7094"/>
                </a:cubicBezTo>
                <a:cubicBezTo>
                  <a:pt x="5978" y="7124"/>
                  <a:pt x="5978" y="7201"/>
                  <a:pt x="6003" y="7218"/>
                </a:cubicBezTo>
                <a:cubicBezTo>
                  <a:pt x="6029" y="7235"/>
                  <a:pt x="6094" y="7252"/>
                  <a:pt x="6127" y="7268"/>
                </a:cubicBezTo>
              </a:path>
              <a:path w="1861" h="2656">
                <a:moveTo>
                  <a:pt x="6003" y="8111"/>
                </a:moveTo>
                <a:cubicBezTo>
                  <a:pt x="6090" y="8111"/>
                  <a:pt x="6171" y="8094"/>
                  <a:pt x="6251" y="8086"/>
                </a:cubicBezTo>
                <a:cubicBezTo>
                  <a:pt x="6466" y="8064"/>
                  <a:pt x="6694" y="8107"/>
                  <a:pt x="6896" y="8062"/>
                </a:cubicBezTo>
                <a:cubicBezTo>
                  <a:pt x="6904" y="8062"/>
                  <a:pt x="6913" y="8062"/>
                  <a:pt x="6921" y="8062"/>
                </a:cubicBezTo>
              </a:path>
              <a:path w="1861" h="2656">
                <a:moveTo>
                  <a:pt x="6028" y="8409"/>
                </a:moveTo>
                <a:cubicBezTo>
                  <a:pt x="6150" y="8409"/>
                  <a:pt x="6240" y="8410"/>
                  <a:pt x="6350" y="8384"/>
                </a:cubicBezTo>
                <a:cubicBezTo>
                  <a:pt x="6387" y="8375"/>
                  <a:pt x="6395" y="8363"/>
                  <a:pt x="6424" y="8334"/>
                </a:cubicBezTo>
              </a:path>
              <a:path w="1861" h="2656">
                <a:moveTo>
                  <a:pt x="5953" y="8632"/>
                </a:moveTo>
                <a:cubicBezTo>
                  <a:pt x="5953" y="8681"/>
                  <a:pt x="5974" y="8815"/>
                  <a:pt x="5928" y="8830"/>
                </a:cubicBezTo>
                <a:cubicBezTo>
                  <a:pt x="5928" y="8795"/>
                  <a:pt x="5933" y="8778"/>
                  <a:pt x="5953" y="8756"/>
                </a:cubicBezTo>
              </a:path>
              <a:path w="1861" h="2656">
                <a:moveTo>
                  <a:pt x="6350" y="9103"/>
                </a:moveTo>
                <a:cubicBezTo>
                  <a:pt x="6273" y="9189"/>
                  <a:pt x="6200" y="9299"/>
                  <a:pt x="6077" y="9327"/>
                </a:cubicBezTo>
                <a:cubicBezTo>
                  <a:pt x="6035" y="9336"/>
                  <a:pt x="5954" y="9337"/>
                  <a:pt x="5928" y="9302"/>
                </a:cubicBezTo>
                <a:cubicBezTo>
                  <a:pt x="5901" y="9245"/>
                  <a:pt x="5895" y="9222"/>
                  <a:pt x="5928" y="9178"/>
                </a:cubicBezTo>
              </a:path>
              <a:path w="1861" h="2656">
                <a:moveTo>
                  <a:pt x="6424" y="8632"/>
                </a:moveTo>
                <a:cubicBezTo>
                  <a:pt x="6496" y="8606"/>
                  <a:pt x="6568" y="8565"/>
                  <a:pt x="6648" y="8582"/>
                </a:cubicBezTo>
                <a:cubicBezTo>
                  <a:pt x="6751" y="8605"/>
                  <a:pt x="6821" y="8625"/>
                  <a:pt x="6821" y="8731"/>
                </a:cubicBezTo>
                <a:cubicBezTo>
                  <a:pt x="6821" y="8847"/>
                  <a:pt x="6777" y="8852"/>
                  <a:pt x="6722" y="8930"/>
                </a:cubicBezTo>
                <a:cubicBezTo>
                  <a:pt x="6679" y="8990"/>
                  <a:pt x="6627" y="9060"/>
                  <a:pt x="6573" y="9103"/>
                </a:cubicBezTo>
                <a:cubicBezTo>
                  <a:pt x="6519" y="9146"/>
                  <a:pt x="6499" y="9131"/>
                  <a:pt x="6499" y="9203"/>
                </a:cubicBezTo>
                <a:cubicBezTo>
                  <a:pt x="6499" y="9247"/>
                  <a:pt x="6556" y="9292"/>
                  <a:pt x="6598" y="9302"/>
                </a:cubicBezTo>
                <a:cubicBezTo>
                  <a:pt x="6679" y="9321"/>
                  <a:pt x="6761" y="9327"/>
                  <a:pt x="6846" y="9327"/>
                </a:cubicBezTo>
                <a:cubicBezTo>
                  <a:pt x="6908" y="9327"/>
                  <a:pt x="6923" y="9337"/>
                  <a:pt x="6945" y="9302"/>
                </a:cubicBezTo>
              </a:path>
              <a:path w="1861" h="2656">
                <a:moveTo>
                  <a:pt x="5755" y="8756"/>
                </a:moveTo>
                <a:cubicBezTo>
                  <a:pt x="5844" y="8789"/>
                  <a:pt x="5903" y="8810"/>
                  <a:pt x="5978" y="8855"/>
                </a:cubicBezTo>
                <a:cubicBezTo>
                  <a:pt x="6043" y="8895"/>
                  <a:pt x="6133" y="8916"/>
                  <a:pt x="6152" y="9004"/>
                </a:cubicBezTo>
                <a:cubicBezTo>
                  <a:pt x="6172" y="9097"/>
                  <a:pt x="6144" y="9114"/>
                  <a:pt x="6102" y="9178"/>
                </a:cubicBezTo>
                <a:cubicBezTo>
                  <a:pt x="6073" y="9223"/>
                  <a:pt x="6053" y="9260"/>
                  <a:pt x="6003" y="9277"/>
                </a:cubicBezTo>
                <a:cubicBezTo>
                  <a:pt x="5995" y="9277"/>
                  <a:pt x="5986" y="9277"/>
                  <a:pt x="5978" y="9277"/>
                </a:cubicBezTo>
              </a:path>
              <a:path w="1861" h="2656">
                <a:moveTo>
                  <a:pt x="5779" y="8781"/>
                </a:moveTo>
                <a:cubicBezTo>
                  <a:pt x="5850" y="8781"/>
                  <a:pt x="5888" y="8795"/>
                  <a:pt x="5953" y="8806"/>
                </a:cubicBezTo>
                <a:cubicBezTo>
                  <a:pt x="6048" y="8823"/>
                  <a:pt x="6047" y="8831"/>
                  <a:pt x="6102" y="8905"/>
                </a:cubicBezTo>
                <a:cubicBezTo>
                  <a:pt x="6145" y="8962"/>
                  <a:pt x="6152" y="8983"/>
                  <a:pt x="6152" y="9054"/>
                </a:cubicBezTo>
                <a:cubicBezTo>
                  <a:pt x="6152" y="9116"/>
                  <a:pt x="6121" y="9134"/>
                  <a:pt x="6077" y="9178"/>
                </a:cubicBezTo>
                <a:cubicBezTo>
                  <a:pt x="6055" y="9200"/>
                  <a:pt x="5985" y="9218"/>
                  <a:pt x="5978" y="9227"/>
                </a:cubicBezTo>
                <a:cubicBezTo>
                  <a:pt x="5952" y="9260"/>
                  <a:pt x="5988" y="9232"/>
                  <a:pt x="6003" y="9227"/>
                </a:cubicBezTo>
              </a:path>
              <a:path w="1861" h="2656">
                <a:moveTo>
                  <a:pt x="5854" y="8806"/>
                </a:moveTo>
                <a:cubicBezTo>
                  <a:pt x="5931" y="8854"/>
                  <a:pt x="5990" y="8904"/>
                  <a:pt x="6052" y="8954"/>
                </a:cubicBezTo>
                <a:cubicBezTo>
                  <a:pt x="6107" y="8998"/>
                  <a:pt x="6138" y="9040"/>
                  <a:pt x="6176" y="9103"/>
                </a:cubicBezTo>
                <a:cubicBezTo>
                  <a:pt x="6196" y="9136"/>
                  <a:pt x="6195" y="9212"/>
                  <a:pt x="6176" y="9252"/>
                </a:cubicBezTo>
                <a:cubicBezTo>
                  <a:pt x="6155" y="9296"/>
                  <a:pt x="6088" y="9316"/>
                  <a:pt x="6052" y="9327"/>
                </a:cubicBezTo>
                <a:cubicBezTo>
                  <a:pt x="6004" y="9342"/>
                  <a:pt x="5970" y="9324"/>
                  <a:pt x="5953" y="9302"/>
                </a:cubicBezTo>
                <a:cubicBezTo>
                  <a:pt x="5945" y="9294"/>
                  <a:pt x="5936" y="9285"/>
                  <a:pt x="5928" y="9277"/>
                </a:cubicBezTo>
              </a:path>
              <a:path w="1861" h="2656">
                <a:moveTo>
                  <a:pt x="5730" y="8855"/>
                </a:moveTo>
                <a:cubicBezTo>
                  <a:pt x="5730" y="8799"/>
                  <a:pt x="5720" y="8777"/>
                  <a:pt x="5705" y="8731"/>
                </a:cubicBezTo>
                <a:cubicBezTo>
                  <a:pt x="5682" y="8663"/>
                  <a:pt x="5695" y="8435"/>
                  <a:pt x="5730" y="8409"/>
                </a:cubicBezTo>
                <a:cubicBezTo>
                  <a:pt x="5772" y="8377"/>
                  <a:pt x="5798" y="8384"/>
                  <a:pt x="5854" y="8384"/>
                </a:cubicBezTo>
                <a:cubicBezTo>
                  <a:pt x="6061" y="8384"/>
                  <a:pt x="6267" y="8384"/>
                  <a:pt x="6474" y="83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81160" y="3625920"/>
            <a:ext cx="339840" cy="544320"/>
          </a:xfrm>
          <a:custGeom>
            <a:avLst/>
            <a:gdLst/>
            <a:ahLst/>
            <a:rect l="l" t="t" r="r" b="b"/>
            <a:pathLst>
              <a:path w="944" h="1514">
                <a:moveTo>
                  <a:pt x="6350" y="10170"/>
                </a:moveTo>
                <a:cubicBezTo>
                  <a:pt x="6343" y="10281"/>
                  <a:pt x="6325" y="10380"/>
                  <a:pt x="6325" y="10492"/>
                </a:cubicBezTo>
                <a:cubicBezTo>
                  <a:pt x="6325" y="10609"/>
                  <a:pt x="6316" y="10748"/>
                  <a:pt x="6300" y="10864"/>
                </a:cubicBezTo>
                <a:cubicBezTo>
                  <a:pt x="6283" y="10991"/>
                  <a:pt x="6276" y="11107"/>
                  <a:pt x="6276" y="11237"/>
                </a:cubicBezTo>
                <a:cubicBezTo>
                  <a:pt x="6276" y="11353"/>
                  <a:pt x="6276" y="11468"/>
                  <a:pt x="6276" y="11584"/>
                </a:cubicBezTo>
                <a:cubicBezTo>
                  <a:pt x="6276" y="11520"/>
                  <a:pt x="6259" y="11472"/>
                  <a:pt x="6251" y="11410"/>
                </a:cubicBezTo>
              </a:path>
              <a:path w="944" h="1514">
                <a:moveTo>
                  <a:pt x="5779" y="10443"/>
                </a:moveTo>
                <a:cubicBezTo>
                  <a:pt x="5813" y="10384"/>
                  <a:pt x="5867" y="10326"/>
                  <a:pt x="5928" y="10294"/>
                </a:cubicBezTo>
                <a:cubicBezTo>
                  <a:pt x="6005" y="10254"/>
                  <a:pt x="6101" y="10237"/>
                  <a:pt x="6176" y="10195"/>
                </a:cubicBezTo>
                <a:cubicBezTo>
                  <a:pt x="6224" y="10168"/>
                  <a:pt x="6238" y="10031"/>
                  <a:pt x="6276" y="10071"/>
                </a:cubicBezTo>
                <a:cubicBezTo>
                  <a:pt x="6311" y="10108"/>
                  <a:pt x="6322" y="10179"/>
                  <a:pt x="6375" y="10220"/>
                </a:cubicBezTo>
                <a:cubicBezTo>
                  <a:pt x="6463" y="10287"/>
                  <a:pt x="6554" y="10355"/>
                  <a:pt x="6648" y="10418"/>
                </a:cubicBezTo>
                <a:cubicBezTo>
                  <a:pt x="6673" y="10435"/>
                  <a:pt x="6697" y="10451"/>
                  <a:pt x="6722" y="104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62080" y="4483080"/>
            <a:ext cx="430200" cy="392040"/>
          </a:xfrm>
          <a:custGeom>
            <a:avLst/>
            <a:gdLst/>
            <a:ahLst/>
            <a:rect l="l" t="t" r="r" b="b"/>
            <a:pathLst>
              <a:path w="1192" h="1092">
                <a:moveTo>
                  <a:pt x="6077" y="12650"/>
                </a:moveTo>
                <a:cubicBezTo>
                  <a:pt x="6085" y="12758"/>
                  <a:pt x="6084" y="12729"/>
                  <a:pt x="6102" y="12799"/>
                </a:cubicBezTo>
                <a:cubicBezTo>
                  <a:pt x="6131" y="12789"/>
                  <a:pt x="6147" y="12765"/>
                  <a:pt x="6152" y="12725"/>
                </a:cubicBezTo>
                <a:cubicBezTo>
                  <a:pt x="6159" y="12660"/>
                  <a:pt x="6142" y="12634"/>
                  <a:pt x="6127" y="12576"/>
                </a:cubicBezTo>
                <a:cubicBezTo>
                  <a:pt x="6111" y="12511"/>
                  <a:pt x="6096" y="12507"/>
                  <a:pt x="6052" y="12477"/>
                </a:cubicBezTo>
                <a:cubicBezTo>
                  <a:pt x="6021" y="12456"/>
                  <a:pt x="5971" y="12469"/>
                  <a:pt x="5928" y="12502"/>
                </a:cubicBezTo>
                <a:cubicBezTo>
                  <a:pt x="5841" y="12568"/>
                  <a:pt x="5748" y="12713"/>
                  <a:pt x="5730" y="12824"/>
                </a:cubicBezTo>
                <a:cubicBezTo>
                  <a:pt x="5719" y="12890"/>
                  <a:pt x="5719" y="12997"/>
                  <a:pt x="5755" y="13047"/>
                </a:cubicBezTo>
                <a:cubicBezTo>
                  <a:pt x="5803" y="13114"/>
                  <a:pt x="5812" y="13108"/>
                  <a:pt x="5879" y="13097"/>
                </a:cubicBezTo>
                <a:cubicBezTo>
                  <a:pt x="5941" y="13087"/>
                  <a:pt x="5956" y="13072"/>
                  <a:pt x="5978" y="13022"/>
                </a:cubicBezTo>
                <a:cubicBezTo>
                  <a:pt x="6001" y="12970"/>
                  <a:pt x="6003" y="12952"/>
                  <a:pt x="6003" y="12898"/>
                </a:cubicBezTo>
                <a:cubicBezTo>
                  <a:pt x="6003" y="12856"/>
                  <a:pt x="6013" y="12861"/>
                  <a:pt x="5978" y="12849"/>
                </a:cubicBezTo>
                <a:cubicBezTo>
                  <a:pt x="5968" y="12888"/>
                  <a:pt x="5937" y="12924"/>
                  <a:pt x="5953" y="12973"/>
                </a:cubicBezTo>
                <a:cubicBezTo>
                  <a:pt x="5988" y="13076"/>
                  <a:pt x="6002" y="13104"/>
                  <a:pt x="6102" y="13146"/>
                </a:cubicBezTo>
                <a:cubicBezTo>
                  <a:pt x="6186" y="13181"/>
                  <a:pt x="6168" y="13167"/>
                  <a:pt x="6251" y="13146"/>
                </a:cubicBezTo>
                <a:cubicBezTo>
                  <a:pt x="6259" y="13146"/>
                  <a:pt x="6268" y="13146"/>
                  <a:pt x="6276" y="13146"/>
                </a:cubicBezTo>
              </a:path>
              <a:path w="1192" h="1092">
                <a:moveTo>
                  <a:pt x="6424" y="12750"/>
                </a:moveTo>
                <a:cubicBezTo>
                  <a:pt x="6384" y="12790"/>
                  <a:pt x="6338" y="12840"/>
                  <a:pt x="6325" y="12898"/>
                </a:cubicBezTo>
                <a:cubicBezTo>
                  <a:pt x="6312" y="12954"/>
                  <a:pt x="6283" y="13036"/>
                  <a:pt x="6300" y="13097"/>
                </a:cubicBezTo>
                <a:cubicBezTo>
                  <a:pt x="6317" y="13158"/>
                  <a:pt x="6374" y="13217"/>
                  <a:pt x="6424" y="13246"/>
                </a:cubicBezTo>
                <a:cubicBezTo>
                  <a:pt x="6503" y="13293"/>
                  <a:pt x="6566" y="13281"/>
                  <a:pt x="6648" y="13271"/>
                </a:cubicBezTo>
                <a:cubicBezTo>
                  <a:pt x="6719" y="13262"/>
                  <a:pt x="6779" y="13203"/>
                  <a:pt x="6821" y="13146"/>
                </a:cubicBezTo>
                <a:cubicBezTo>
                  <a:pt x="6834" y="13128"/>
                  <a:pt x="6865" y="13049"/>
                  <a:pt x="6846" y="13022"/>
                </a:cubicBezTo>
                <a:cubicBezTo>
                  <a:pt x="6806" y="12967"/>
                  <a:pt x="6773" y="12927"/>
                  <a:pt x="6722" y="12973"/>
                </a:cubicBezTo>
                <a:cubicBezTo>
                  <a:pt x="6671" y="13018"/>
                  <a:pt x="6672" y="13059"/>
                  <a:pt x="6672" y="13122"/>
                </a:cubicBezTo>
                <a:cubicBezTo>
                  <a:pt x="6672" y="13193"/>
                  <a:pt x="6707" y="13309"/>
                  <a:pt x="6747" y="13370"/>
                </a:cubicBezTo>
                <a:cubicBezTo>
                  <a:pt x="6789" y="13434"/>
                  <a:pt x="6863" y="13502"/>
                  <a:pt x="6921" y="135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33760" y="2500200"/>
            <a:ext cx="3081240" cy="1278000"/>
          </a:xfrm>
          <a:custGeom>
            <a:avLst/>
            <a:gdLst/>
            <a:ahLst/>
            <a:rect l="l" t="t" r="r" b="b"/>
            <a:pathLst>
              <a:path w="8559" h="3548">
                <a:moveTo>
                  <a:pt x="7317" y="8210"/>
                </a:moveTo>
                <a:cubicBezTo>
                  <a:pt x="7429" y="8210"/>
                  <a:pt x="7532" y="8225"/>
                  <a:pt x="7640" y="8235"/>
                </a:cubicBezTo>
                <a:cubicBezTo>
                  <a:pt x="7796" y="8250"/>
                  <a:pt x="7958" y="8246"/>
                  <a:pt x="8111" y="8260"/>
                </a:cubicBezTo>
                <a:cubicBezTo>
                  <a:pt x="8284" y="8276"/>
                  <a:pt x="8756" y="8260"/>
                  <a:pt x="8582" y="8260"/>
                </a:cubicBezTo>
              </a:path>
              <a:path w="8559" h="3548">
                <a:moveTo>
                  <a:pt x="9699" y="7045"/>
                </a:moveTo>
                <a:cubicBezTo>
                  <a:pt x="9699" y="7020"/>
                  <a:pt x="9699" y="6995"/>
                  <a:pt x="9699" y="6970"/>
                </a:cubicBezTo>
                <a:cubicBezTo>
                  <a:pt x="9755" y="6989"/>
                  <a:pt x="9707" y="7006"/>
                  <a:pt x="9699" y="7045"/>
                </a:cubicBezTo>
                <a:cubicBezTo>
                  <a:pt x="9686" y="7107"/>
                  <a:pt x="9684" y="7183"/>
                  <a:pt x="9674" y="7243"/>
                </a:cubicBezTo>
                <a:cubicBezTo>
                  <a:pt x="9654" y="7363"/>
                  <a:pt x="9684" y="7504"/>
                  <a:pt x="9699" y="7615"/>
                </a:cubicBezTo>
                <a:cubicBezTo>
                  <a:pt x="9710" y="7699"/>
                  <a:pt x="9709" y="7789"/>
                  <a:pt x="9723" y="7863"/>
                </a:cubicBezTo>
                <a:cubicBezTo>
                  <a:pt x="9736" y="7930"/>
                  <a:pt x="9738" y="8058"/>
                  <a:pt x="9699" y="8111"/>
                </a:cubicBezTo>
              </a:path>
              <a:path w="8559" h="3548">
                <a:moveTo>
                  <a:pt x="9351" y="8260"/>
                </a:moveTo>
                <a:cubicBezTo>
                  <a:pt x="9470" y="8288"/>
                  <a:pt x="9535" y="8273"/>
                  <a:pt x="9649" y="8260"/>
                </a:cubicBezTo>
                <a:cubicBezTo>
                  <a:pt x="9841" y="8238"/>
                  <a:pt x="10031" y="8271"/>
                  <a:pt x="10220" y="8235"/>
                </a:cubicBezTo>
                <a:cubicBezTo>
                  <a:pt x="10228" y="8235"/>
                  <a:pt x="10236" y="8235"/>
                  <a:pt x="10244" y="8235"/>
                </a:cubicBezTo>
              </a:path>
              <a:path w="8559" h="3548">
                <a:moveTo>
                  <a:pt x="9277" y="8731"/>
                </a:moveTo>
                <a:cubicBezTo>
                  <a:pt x="9381" y="8757"/>
                  <a:pt x="9427" y="8736"/>
                  <a:pt x="9525" y="8731"/>
                </a:cubicBezTo>
                <a:cubicBezTo>
                  <a:pt x="9566" y="8729"/>
                  <a:pt x="9693" y="8704"/>
                  <a:pt x="9723" y="8682"/>
                </a:cubicBezTo>
                <a:cubicBezTo>
                  <a:pt x="9751" y="8661"/>
                  <a:pt x="9734" y="8628"/>
                  <a:pt x="9723" y="8607"/>
                </a:cubicBezTo>
              </a:path>
              <a:path w="8559" h="3548">
                <a:moveTo>
                  <a:pt x="9252" y="8781"/>
                </a:moveTo>
                <a:cubicBezTo>
                  <a:pt x="9216" y="8881"/>
                  <a:pt x="9220" y="8889"/>
                  <a:pt x="9227" y="8979"/>
                </a:cubicBezTo>
                <a:cubicBezTo>
                  <a:pt x="9230" y="9016"/>
                  <a:pt x="9233" y="9051"/>
                  <a:pt x="9252" y="9079"/>
                </a:cubicBezTo>
                <a:cubicBezTo>
                  <a:pt x="9275" y="9101"/>
                  <a:pt x="9280" y="9109"/>
                  <a:pt x="9302" y="9103"/>
                </a:cubicBezTo>
                <a:cubicBezTo>
                  <a:pt x="9302" y="9059"/>
                  <a:pt x="9309" y="9054"/>
                  <a:pt x="9327" y="9029"/>
                </a:cubicBezTo>
                <a:cubicBezTo>
                  <a:pt x="9346" y="9003"/>
                  <a:pt x="9396" y="8981"/>
                  <a:pt x="9426" y="8979"/>
                </a:cubicBezTo>
                <a:cubicBezTo>
                  <a:pt x="9490" y="8974"/>
                  <a:pt x="9524" y="8990"/>
                  <a:pt x="9575" y="9029"/>
                </a:cubicBezTo>
                <a:cubicBezTo>
                  <a:pt x="9638" y="9077"/>
                  <a:pt x="9670" y="9182"/>
                  <a:pt x="9674" y="9252"/>
                </a:cubicBezTo>
                <a:cubicBezTo>
                  <a:pt x="9677" y="9315"/>
                  <a:pt x="9676" y="9403"/>
                  <a:pt x="9624" y="9451"/>
                </a:cubicBezTo>
                <a:cubicBezTo>
                  <a:pt x="9578" y="9493"/>
                  <a:pt x="9505" y="9543"/>
                  <a:pt x="9451" y="9575"/>
                </a:cubicBezTo>
                <a:cubicBezTo>
                  <a:pt x="9379" y="9618"/>
                  <a:pt x="9320" y="9598"/>
                  <a:pt x="9252" y="9624"/>
                </a:cubicBezTo>
                <a:cubicBezTo>
                  <a:pt x="9202" y="9643"/>
                  <a:pt x="9184" y="9641"/>
                  <a:pt x="9178" y="9575"/>
                </a:cubicBezTo>
                <a:cubicBezTo>
                  <a:pt x="9178" y="9567"/>
                  <a:pt x="9178" y="9558"/>
                  <a:pt x="9178" y="9550"/>
                </a:cubicBezTo>
              </a:path>
              <a:path w="8559" h="3548">
                <a:moveTo>
                  <a:pt x="9823" y="8954"/>
                </a:moveTo>
                <a:cubicBezTo>
                  <a:pt x="9907" y="8901"/>
                  <a:pt x="9948" y="8852"/>
                  <a:pt x="10046" y="8905"/>
                </a:cubicBezTo>
                <a:cubicBezTo>
                  <a:pt x="10071" y="8919"/>
                  <a:pt x="10094" y="8979"/>
                  <a:pt x="10096" y="9004"/>
                </a:cubicBezTo>
                <a:cubicBezTo>
                  <a:pt x="10100" y="9066"/>
                  <a:pt x="10050" y="9121"/>
                  <a:pt x="10021" y="9178"/>
                </a:cubicBezTo>
                <a:cubicBezTo>
                  <a:pt x="9999" y="9222"/>
                  <a:pt x="9957" y="9319"/>
                  <a:pt x="9922" y="9351"/>
                </a:cubicBezTo>
                <a:cubicBezTo>
                  <a:pt x="9876" y="9393"/>
                  <a:pt x="9861" y="9409"/>
                  <a:pt x="9823" y="9451"/>
                </a:cubicBezTo>
                <a:cubicBezTo>
                  <a:pt x="9791" y="9487"/>
                  <a:pt x="9794" y="9526"/>
                  <a:pt x="9847" y="9550"/>
                </a:cubicBezTo>
                <a:cubicBezTo>
                  <a:pt x="9887" y="9568"/>
                  <a:pt x="9928" y="9561"/>
                  <a:pt x="9971" y="9575"/>
                </a:cubicBezTo>
                <a:cubicBezTo>
                  <a:pt x="10070" y="9607"/>
                  <a:pt x="10126" y="9590"/>
                  <a:pt x="10220" y="9575"/>
                </a:cubicBezTo>
                <a:cubicBezTo>
                  <a:pt x="10271" y="9575"/>
                  <a:pt x="10290" y="9574"/>
                  <a:pt x="10319" y="9550"/>
                </a:cubicBezTo>
              </a:path>
              <a:path w="8559" h="3548">
                <a:moveTo>
                  <a:pt x="10914" y="8483"/>
                </a:moveTo>
                <a:cubicBezTo>
                  <a:pt x="11022" y="8483"/>
                  <a:pt x="11129" y="8483"/>
                  <a:pt x="11237" y="8483"/>
                </a:cubicBezTo>
              </a:path>
              <a:path w="8559" h="3548">
                <a:moveTo>
                  <a:pt x="10964" y="8756"/>
                </a:moveTo>
                <a:cubicBezTo>
                  <a:pt x="11097" y="8814"/>
                  <a:pt x="11137" y="8844"/>
                  <a:pt x="11261" y="8855"/>
                </a:cubicBezTo>
              </a:path>
              <a:path w="8559" h="3548">
                <a:moveTo>
                  <a:pt x="12204" y="7317"/>
                </a:moveTo>
                <a:cubicBezTo>
                  <a:pt x="12204" y="7406"/>
                  <a:pt x="12183" y="7480"/>
                  <a:pt x="12179" y="7565"/>
                </a:cubicBezTo>
                <a:cubicBezTo>
                  <a:pt x="12168" y="7829"/>
                  <a:pt x="11915" y="8219"/>
                  <a:pt x="12154" y="8334"/>
                </a:cubicBezTo>
                <a:cubicBezTo>
                  <a:pt x="12179" y="8334"/>
                  <a:pt x="12187" y="8334"/>
                  <a:pt x="12179" y="8310"/>
                </a:cubicBezTo>
              </a:path>
              <a:path w="8559" h="3548">
                <a:moveTo>
                  <a:pt x="12477" y="7441"/>
                </a:moveTo>
                <a:cubicBezTo>
                  <a:pt x="12485" y="7433"/>
                  <a:pt x="12494" y="7425"/>
                  <a:pt x="12502" y="7417"/>
                </a:cubicBezTo>
                <a:cubicBezTo>
                  <a:pt x="12514" y="7452"/>
                  <a:pt x="12544" y="7453"/>
                  <a:pt x="12526" y="7516"/>
                </a:cubicBezTo>
                <a:cubicBezTo>
                  <a:pt x="12500" y="7606"/>
                  <a:pt x="12483" y="7696"/>
                  <a:pt x="12452" y="7789"/>
                </a:cubicBezTo>
                <a:cubicBezTo>
                  <a:pt x="12413" y="7904"/>
                  <a:pt x="12402" y="7990"/>
                  <a:pt x="12402" y="8111"/>
                </a:cubicBezTo>
                <a:cubicBezTo>
                  <a:pt x="12402" y="8229"/>
                  <a:pt x="12447" y="8275"/>
                  <a:pt x="12526" y="8359"/>
                </a:cubicBezTo>
                <a:cubicBezTo>
                  <a:pt x="12579" y="8415"/>
                  <a:pt x="12634" y="8425"/>
                  <a:pt x="12700" y="8384"/>
                </a:cubicBezTo>
                <a:cubicBezTo>
                  <a:pt x="12739" y="8360"/>
                  <a:pt x="12830" y="8305"/>
                  <a:pt x="12849" y="8260"/>
                </a:cubicBezTo>
                <a:cubicBezTo>
                  <a:pt x="12860" y="8233"/>
                  <a:pt x="12890" y="8142"/>
                  <a:pt x="12874" y="8111"/>
                </a:cubicBezTo>
                <a:cubicBezTo>
                  <a:pt x="12859" y="8080"/>
                  <a:pt x="12785" y="8021"/>
                  <a:pt x="12750" y="8037"/>
                </a:cubicBezTo>
                <a:cubicBezTo>
                  <a:pt x="12641" y="8088"/>
                  <a:pt x="12558" y="8140"/>
                  <a:pt x="12551" y="8260"/>
                </a:cubicBezTo>
                <a:cubicBezTo>
                  <a:pt x="12546" y="8345"/>
                  <a:pt x="12575" y="8386"/>
                  <a:pt x="12601" y="8458"/>
                </a:cubicBezTo>
                <a:cubicBezTo>
                  <a:pt x="12601" y="8466"/>
                  <a:pt x="12601" y="8475"/>
                  <a:pt x="12601" y="8483"/>
                </a:cubicBezTo>
              </a:path>
              <a:path w="8559" h="3548">
                <a:moveTo>
                  <a:pt x="11782" y="8682"/>
                </a:moveTo>
                <a:cubicBezTo>
                  <a:pt x="11933" y="8711"/>
                  <a:pt x="12074" y="8706"/>
                  <a:pt x="12229" y="8706"/>
                </a:cubicBezTo>
                <a:cubicBezTo>
                  <a:pt x="12358" y="8706"/>
                  <a:pt x="12477" y="8695"/>
                  <a:pt x="12601" y="8682"/>
                </a:cubicBezTo>
                <a:cubicBezTo>
                  <a:pt x="12667" y="8675"/>
                  <a:pt x="12826" y="8698"/>
                  <a:pt x="12774" y="8657"/>
                </a:cubicBezTo>
                <a:cubicBezTo>
                  <a:pt x="12741" y="8657"/>
                  <a:pt x="12725" y="8657"/>
                  <a:pt x="12700" y="8657"/>
                </a:cubicBezTo>
              </a:path>
              <a:path w="8559" h="3548">
                <a:moveTo>
                  <a:pt x="11733" y="9004"/>
                </a:moveTo>
                <a:cubicBezTo>
                  <a:pt x="11854" y="9004"/>
                  <a:pt x="11963" y="8995"/>
                  <a:pt x="12080" y="8979"/>
                </a:cubicBezTo>
                <a:cubicBezTo>
                  <a:pt x="12131" y="8979"/>
                  <a:pt x="12150" y="8978"/>
                  <a:pt x="12179" y="8954"/>
                </a:cubicBezTo>
              </a:path>
              <a:path w="8559" h="3548">
                <a:moveTo>
                  <a:pt x="11857" y="8979"/>
                </a:moveTo>
                <a:cubicBezTo>
                  <a:pt x="11822" y="9014"/>
                  <a:pt x="11723" y="9098"/>
                  <a:pt x="11708" y="9153"/>
                </a:cubicBezTo>
                <a:cubicBezTo>
                  <a:pt x="11690" y="9221"/>
                  <a:pt x="11715" y="9275"/>
                  <a:pt x="11733" y="9327"/>
                </a:cubicBezTo>
                <a:cubicBezTo>
                  <a:pt x="11746" y="9366"/>
                  <a:pt x="11744" y="9336"/>
                  <a:pt x="11757" y="9376"/>
                </a:cubicBezTo>
                <a:cubicBezTo>
                  <a:pt x="11786" y="9366"/>
                  <a:pt x="11799" y="9356"/>
                  <a:pt x="11832" y="9327"/>
                </a:cubicBezTo>
                <a:cubicBezTo>
                  <a:pt x="11863" y="9300"/>
                  <a:pt x="11914" y="9266"/>
                  <a:pt x="11956" y="9252"/>
                </a:cubicBezTo>
                <a:cubicBezTo>
                  <a:pt x="12005" y="9236"/>
                  <a:pt x="12062" y="9257"/>
                  <a:pt x="12105" y="9277"/>
                </a:cubicBezTo>
                <a:cubicBezTo>
                  <a:pt x="12172" y="9309"/>
                  <a:pt x="12194" y="9353"/>
                  <a:pt x="12204" y="9426"/>
                </a:cubicBezTo>
                <a:cubicBezTo>
                  <a:pt x="12214" y="9504"/>
                  <a:pt x="12198" y="9607"/>
                  <a:pt x="12154" y="9674"/>
                </a:cubicBezTo>
                <a:cubicBezTo>
                  <a:pt x="12115" y="9732"/>
                  <a:pt x="12039" y="9788"/>
                  <a:pt x="11981" y="9823"/>
                </a:cubicBezTo>
                <a:cubicBezTo>
                  <a:pt x="11944" y="9845"/>
                  <a:pt x="11850" y="9868"/>
                  <a:pt x="11807" y="9847"/>
                </a:cubicBezTo>
                <a:cubicBezTo>
                  <a:pt x="11770" y="9829"/>
                  <a:pt x="11751" y="9780"/>
                  <a:pt x="11733" y="9748"/>
                </a:cubicBezTo>
              </a:path>
              <a:path w="8559" h="3548">
                <a:moveTo>
                  <a:pt x="12278" y="9178"/>
                </a:moveTo>
                <a:cubicBezTo>
                  <a:pt x="12331" y="9181"/>
                  <a:pt x="12521" y="9166"/>
                  <a:pt x="12551" y="9252"/>
                </a:cubicBezTo>
                <a:cubicBezTo>
                  <a:pt x="12595" y="9379"/>
                  <a:pt x="12554" y="9420"/>
                  <a:pt x="12502" y="9525"/>
                </a:cubicBezTo>
                <a:cubicBezTo>
                  <a:pt x="12453" y="9624"/>
                  <a:pt x="12363" y="9693"/>
                  <a:pt x="12328" y="9798"/>
                </a:cubicBezTo>
                <a:cubicBezTo>
                  <a:pt x="12299" y="9883"/>
                  <a:pt x="12409" y="9956"/>
                  <a:pt x="12477" y="9971"/>
                </a:cubicBezTo>
                <a:cubicBezTo>
                  <a:pt x="12586" y="9995"/>
                  <a:pt x="12661" y="9946"/>
                  <a:pt x="12750" y="9897"/>
                </a:cubicBezTo>
                <a:cubicBezTo>
                  <a:pt x="12766" y="9889"/>
                  <a:pt x="12783" y="9880"/>
                  <a:pt x="12799" y="9872"/>
                </a:cubicBezTo>
              </a:path>
              <a:path w="8559" h="3548">
                <a:moveTo>
                  <a:pt x="13146" y="8855"/>
                </a:moveTo>
                <a:cubicBezTo>
                  <a:pt x="13250" y="8841"/>
                  <a:pt x="13321" y="8830"/>
                  <a:pt x="13419" y="8830"/>
                </a:cubicBezTo>
              </a:path>
              <a:path w="8559" h="3548">
                <a:moveTo>
                  <a:pt x="13196" y="9079"/>
                </a:moveTo>
                <a:cubicBezTo>
                  <a:pt x="13341" y="9067"/>
                  <a:pt x="13452" y="9043"/>
                  <a:pt x="13593" y="9004"/>
                </a:cubicBezTo>
              </a:path>
              <a:path w="8559" h="3548">
                <a:moveTo>
                  <a:pt x="14461" y="7689"/>
                </a:moveTo>
                <a:cubicBezTo>
                  <a:pt x="14452" y="7775"/>
                  <a:pt x="14427" y="7808"/>
                  <a:pt x="14387" y="7888"/>
                </a:cubicBezTo>
                <a:cubicBezTo>
                  <a:pt x="14366" y="7931"/>
                  <a:pt x="14322" y="8038"/>
                  <a:pt x="14337" y="8086"/>
                </a:cubicBezTo>
                <a:cubicBezTo>
                  <a:pt x="14352" y="8136"/>
                  <a:pt x="14370" y="8195"/>
                  <a:pt x="14436" y="8210"/>
                </a:cubicBezTo>
                <a:cubicBezTo>
                  <a:pt x="14505" y="8226"/>
                  <a:pt x="14653" y="8224"/>
                  <a:pt x="14709" y="8186"/>
                </a:cubicBezTo>
                <a:cubicBezTo>
                  <a:pt x="14811" y="8117"/>
                  <a:pt x="14858" y="8018"/>
                  <a:pt x="14908" y="7913"/>
                </a:cubicBezTo>
              </a:path>
              <a:path w="8559" h="3548">
                <a:moveTo>
                  <a:pt x="14784" y="7441"/>
                </a:moveTo>
                <a:cubicBezTo>
                  <a:pt x="14745" y="7528"/>
                  <a:pt x="14719" y="7619"/>
                  <a:pt x="14709" y="7714"/>
                </a:cubicBezTo>
                <a:cubicBezTo>
                  <a:pt x="14697" y="7829"/>
                  <a:pt x="14668" y="7947"/>
                  <a:pt x="14660" y="8062"/>
                </a:cubicBezTo>
                <a:cubicBezTo>
                  <a:pt x="14644" y="8283"/>
                  <a:pt x="14660" y="8510"/>
                  <a:pt x="14660" y="8731"/>
                </a:cubicBezTo>
              </a:path>
              <a:path w="8559" h="3548">
                <a:moveTo>
                  <a:pt x="14139" y="8855"/>
                </a:moveTo>
                <a:cubicBezTo>
                  <a:pt x="14265" y="8882"/>
                  <a:pt x="14407" y="8895"/>
                  <a:pt x="14536" y="8905"/>
                </a:cubicBezTo>
                <a:cubicBezTo>
                  <a:pt x="14670" y="8915"/>
                  <a:pt x="14833" y="8922"/>
                  <a:pt x="14957" y="8880"/>
                </a:cubicBezTo>
              </a:path>
              <a:path w="8559" h="3548">
                <a:moveTo>
                  <a:pt x="14312" y="9376"/>
                </a:moveTo>
                <a:cubicBezTo>
                  <a:pt x="14292" y="9543"/>
                  <a:pt x="14256" y="9709"/>
                  <a:pt x="14238" y="9872"/>
                </a:cubicBezTo>
                <a:cubicBezTo>
                  <a:pt x="14229" y="9951"/>
                  <a:pt x="14213" y="10015"/>
                  <a:pt x="14213" y="10096"/>
                </a:cubicBezTo>
                <a:cubicBezTo>
                  <a:pt x="14213" y="10151"/>
                  <a:pt x="14230" y="10064"/>
                  <a:pt x="14238" y="10046"/>
                </a:cubicBezTo>
              </a:path>
              <a:path w="8559" h="3548">
                <a:moveTo>
                  <a:pt x="14635" y="9351"/>
                </a:moveTo>
                <a:cubicBezTo>
                  <a:pt x="14721" y="9315"/>
                  <a:pt x="14809" y="9276"/>
                  <a:pt x="14908" y="9302"/>
                </a:cubicBezTo>
                <a:cubicBezTo>
                  <a:pt x="14956" y="9315"/>
                  <a:pt x="14982" y="9381"/>
                  <a:pt x="14957" y="9426"/>
                </a:cubicBezTo>
                <a:cubicBezTo>
                  <a:pt x="14927" y="9479"/>
                  <a:pt x="14860" y="9522"/>
                  <a:pt x="14808" y="9550"/>
                </a:cubicBezTo>
                <a:cubicBezTo>
                  <a:pt x="14757" y="9577"/>
                  <a:pt x="14706" y="9606"/>
                  <a:pt x="14684" y="9649"/>
                </a:cubicBezTo>
                <a:cubicBezTo>
                  <a:pt x="14743" y="9649"/>
                  <a:pt x="14787" y="9664"/>
                  <a:pt x="14833" y="9674"/>
                </a:cubicBezTo>
                <a:cubicBezTo>
                  <a:pt x="14892" y="9687"/>
                  <a:pt x="14949" y="9708"/>
                  <a:pt x="14982" y="9773"/>
                </a:cubicBezTo>
                <a:cubicBezTo>
                  <a:pt x="15017" y="9843"/>
                  <a:pt x="15051" y="9940"/>
                  <a:pt x="15032" y="10021"/>
                </a:cubicBezTo>
                <a:cubicBezTo>
                  <a:pt x="15015" y="10091"/>
                  <a:pt x="14914" y="10158"/>
                  <a:pt x="14858" y="10195"/>
                </a:cubicBezTo>
                <a:cubicBezTo>
                  <a:pt x="14780" y="10247"/>
                  <a:pt x="14699" y="10244"/>
                  <a:pt x="14610" y="10244"/>
                </a:cubicBezTo>
                <a:cubicBezTo>
                  <a:pt x="14532" y="10244"/>
                  <a:pt x="14502" y="10212"/>
                  <a:pt x="14436" y="10170"/>
                </a:cubicBezTo>
              </a:path>
              <a:path w="8559" h="3548">
                <a:moveTo>
                  <a:pt x="15627" y="8310"/>
                </a:moveTo>
                <a:cubicBezTo>
                  <a:pt x="15673" y="8091"/>
                  <a:pt x="15697" y="7913"/>
                  <a:pt x="15652" y="7689"/>
                </a:cubicBezTo>
                <a:cubicBezTo>
                  <a:pt x="15623" y="7547"/>
                  <a:pt x="15554" y="7435"/>
                  <a:pt x="15478" y="7317"/>
                </a:cubicBezTo>
                <a:cubicBezTo>
                  <a:pt x="15395" y="7188"/>
                  <a:pt x="15290" y="7116"/>
                  <a:pt x="15156" y="7045"/>
                </a:cubicBezTo>
                <a:cubicBezTo>
                  <a:pt x="15028" y="6977"/>
                  <a:pt x="14903" y="6949"/>
                  <a:pt x="14759" y="6945"/>
                </a:cubicBezTo>
                <a:cubicBezTo>
                  <a:pt x="14613" y="6941"/>
                  <a:pt x="14485" y="6970"/>
                  <a:pt x="14362" y="7045"/>
                </a:cubicBezTo>
                <a:cubicBezTo>
                  <a:pt x="14223" y="7129"/>
                  <a:pt x="14081" y="7256"/>
                  <a:pt x="13990" y="7392"/>
                </a:cubicBezTo>
                <a:cubicBezTo>
                  <a:pt x="13900" y="7527"/>
                  <a:pt x="13862" y="7710"/>
                  <a:pt x="13816" y="7863"/>
                </a:cubicBezTo>
                <a:cubicBezTo>
                  <a:pt x="13754" y="8067"/>
                  <a:pt x="13729" y="8295"/>
                  <a:pt x="13717" y="8508"/>
                </a:cubicBezTo>
                <a:cubicBezTo>
                  <a:pt x="13707" y="8691"/>
                  <a:pt x="13692" y="8870"/>
                  <a:pt x="13692" y="9054"/>
                </a:cubicBezTo>
                <a:cubicBezTo>
                  <a:pt x="13692" y="9236"/>
                  <a:pt x="13693" y="9420"/>
                  <a:pt x="13717" y="9599"/>
                </a:cubicBezTo>
                <a:cubicBezTo>
                  <a:pt x="13741" y="9779"/>
                  <a:pt x="13779" y="9985"/>
                  <a:pt x="13866" y="10145"/>
                </a:cubicBezTo>
                <a:cubicBezTo>
                  <a:pt x="13925" y="10254"/>
                  <a:pt x="14027" y="10369"/>
                  <a:pt x="14139" y="10418"/>
                </a:cubicBezTo>
                <a:cubicBezTo>
                  <a:pt x="14238" y="10461"/>
                  <a:pt x="14352" y="10500"/>
                  <a:pt x="14461" y="10492"/>
                </a:cubicBezTo>
                <a:cubicBezTo>
                  <a:pt x="14672" y="10476"/>
                  <a:pt x="14860" y="10352"/>
                  <a:pt x="15032" y="10244"/>
                </a:cubicBezTo>
                <a:cubicBezTo>
                  <a:pt x="15164" y="10161"/>
                  <a:pt x="15269" y="10057"/>
                  <a:pt x="15379" y="9947"/>
                </a:cubicBezTo>
                <a:cubicBezTo>
                  <a:pt x="15509" y="9817"/>
                  <a:pt x="15593" y="9638"/>
                  <a:pt x="15677" y="9475"/>
                </a:cubicBezTo>
                <a:cubicBezTo>
                  <a:pt x="15751" y="9331"/>
                  <a:pt x="15789" y="9211"/>
                  <a:pt x="15825" y="9054"/>
                </a:cubicBezTo>
                <a:cubicBezTo>
                  <a:pt x="15860" y="8899"/>
                  <a:pt x="15863" y="8812"/>
                  <a:pt x="15850" y="8657"/>
                </a:cubicBezTo>
                <a:cubicBezTo>
                  <a:pt x="15839" y="8523"/>
                  <a:pt x="15818" y="8405"/>
                  <a:pt x="15751" y="8285"/>
                </a:cubicBezTo>
                <a:cubicBezTo>
                  <a:pt x="15685" y="8166"/>
                  <a:pt x="15593" y="8017"/>
                  <a:pt x="15478" y="7938"/>
                </a:cubicBezTo>
                <a:cubicBezTo>
                  <a:pt x="15379" y="7888"/>
                  <a:pt x="15346" y="7871"/>
                  <a:pt x="15280" y="78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ependent Ev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separate events from different sample spaces where one has no effect on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alculate, find each probability and multi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mputer randomly selects three integers from 1 to 12 (a number can be repeated).  What is the probability each number is a number less than 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94080" y="5018040"/>
            <a:ext cx="312840" cy="1081080"/>
          </a:xfrm>
          <a:custGeom>
            <a:avLst/>
            <a:gdLst/>
            <a:ahLst/>
            <a:rect l="l" t="t" r="r" b="b"/>
            <a:pathLst>
              <a:path w="869" h="3003">
                <a:moveTo>
                  <a:pt x="9798" y="13940"/>
                </a:moveTo>
                <a:cubicBezTo>
                  <a:pt x="9812" y="13995"/>
                  <a:pt x="9825" y="14054"/>
                  <a:pt x="9847" y="14114"/>
                </a:cubicBezTo>
                <a:cubicBezTo>
                  <a:pt x="9891" y="14237"/>
                  <a:pt x="9929" y="14379"/>
                  <a:pt x="9947" y="14511"/>
                </a:cubicBezTo>
                <a:cubicBezTo>
                  <a:pt x="9960" y="14608"/>
                  <a:pt x="9947" y="14710"/>
                  <a:pt x="9947" y="14808"/>
                </a:cubicBezTo>
              </a:path>
              <a:path w="869" h="3003">
                <a:moveTo>
                  <a:pt x="9426" y="15081"/>
                </a:moveTo>
                <a:cubicBezTo>
                  <a:pt x="9587" y="15061"/>
                  <a:pt x="9673" y="15064"/>
                  <a:pt x="9823" y="15081"/>
                </a:cubicBezTo>
                <a:cubicBezTo>
                  <a:pt x="9924" y="15092"/>
                  <a:pt x="10020" y="15117"/>
                  <a:pt x="10120" y="15131"/>
                </a:cubicBezTo>
                <a:cubicBezTo>
                  <a:pt x="10182" y="15139"/>
                  <a:pt x="10218" y="15139"/>
                  <a:pt x="10269" y="15156"/>
                </a:cubicBezTo>
                <a:cubicBezTo>
                  <a:pt x="10277" y="15156"/>
                  <a:pt x="10286" y="15156"/>
                  <a:pt x="10294" y="15156"/>
                </a:cubicBezTo>
              </a:path>
              <a:path w="869" h="3003">
                <a:moveTo>
                  <a:pt x="9649" y="15652"/>
                </a:moveTo>
                <a:cubicBezTo>
                  <a:pt x="9725" y="15652"/>
                  <a:pt x="9785" y="15664"/>
                  <a:pt x="9847" y="15677"/>
                </a:cubicBezTo>
                <a:cubicBezTo>
                  <a:pt x="9953" y="15698"/>
                  <a:pt x="10007" y="15750"/>
                  <a:pt x="10096" y="15825"/>
                </a:cubicBezTo>
                <a:cubicBezTo>
                  <a:pt x="10156" y="15876"/>
                  <a:pt x="10149" y="15918"/>
                  <a:pt x="10120" y="15974"/>
                </a:cubicBezTo>
                <a:cubicBezTo>
                  <a:pt x="10077" y="16056"/>
                  <a:pt x="10003" y="16059"/>
                  <a:pt x="9922" y="16098"/>
                </a:cubicBezTo>
                <a:cubicBezTo>
                  <a:pt x="9864" y="16125"/>
                  <a:pt x="9793" y="16138"/>
                  <a:pt x="9748" y="16173"/>
                </a:cubicBezTo>
                <a:cubicBezTo>
                  <a:pt x="9723" y="16173"/>
                  <a:pt x="9715" y="16173"/>
                  <a:pt x="9723" y="16197"/>
                </a:cubicBezTo>
                <a:cubicBezTo>
                  <a:pt x="9767" y="16232"/>
                  <a:pt x="9801" y="16224"/>
                  <a:pt x="9847" y="16247"/>
                </a:cubicBezTo>
                <a:cubicBezTo>
                  <a:pt x="9896" y="16272"/>
                  <a:pt x="9928" y="16278"/>
                  <a:pt x="9971" y="16321"/>
                </a:cubicBezTo>
                <a:cubicBezTo>
                  <a:pt x="10018" y="16368"/>
                  <a:pt x="10099" y="16496"/>
                  <a:pt x="10096" y="16570"/>
                </a:cubicBezTo>
                <a:cubicBezTo>
                  <a:pt x="10092" y="16671"/>
                  <a:pt x="10054" y="16777"/>
                  <a:pt x="9971" y="16842"/>
                </a:cubicBezTo>
                <a:cubicBezTo>
                  <a:pt x="9915" y="16886"/>
                  <a:pt x="9826" y="16950"/>
                  <a:pt x="9748" y="16942"/>
                </a:cubicBezTo>
                <a:cubicBezTo>
                  <a:pt x="9650" y="16933"/>
                  <a:pt x="9580" y="16862"/>
                  <a:pt x="9525" y="167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03680" y="4902120"/>
            <a:ext cx="304560" cy="1090800"/>
          </a:xfrm>
          <a:custGeom>
            <a:avLst/>
            <a:gdLst/>
            <a:ahLst/>
            <a:rect l="l" t="t" r="r" b="b"/>
            <a:pathLst>
              <a:path w="844" h="3027">
                <a:moveTo>
                  <a:pt x="8285" y="13618"/>
                </a:moveTo>
                <a:cubicBezTo>
                  <a:pt x="8285" y="13715"/>
                  <a:pt x="8271" y="13798"/>
                  <a:pt x="8260" y="13891"/>
                </a:cubicBezTo>
                <a:cubicBezTo>
                  <a:pt x="8235" y="14102"/>
                  <a:pt x="8263" y="14333"/>
                  <a:pt x="8285" y="14536"/>
                </a:cubicBezTo>
                <a:cubicBezTo>
                  <a:pt x="8290" y="14581"/>
                  <a:pt x="8285" y="14636"/>
                  <a:pt x="8285" y="14684"/>
                </a:cubicBezTo>
              </a:path>
              <a:path w="844" h="3027">
                <a:moveTo>
                  <a:pt x="7789" y="14734"/>
                </a:moveTo>
                <a:cubicBezTo>
                  <a:pt x="7966" y="14734"/>
                  <a:pt x="8138" y="14728"/>
                  <a:pt x="8310" y="14709"/>
                </a:cubicBezTo>
                <a:cubicBezTo>
                  <a:pt x="8384" y="14701"/>
                  <a:pt x="8463" y="14689"/>
                  <a:pt x="8533" y="14684"/>
                </a:cubicBezTo>
                <a:cubicBezTo>
                  <a:pt x="8594" y="14680"/>
                  <a:pt x="8587" y="14692"/>
                  <a:pt x="8632" y="14660"/>
                </a:cubicBezTo>
              </a:path>
              <a:path w="844" h="3027">
                <a:moveTo>
                  <a:pt x="7962" y="15304"/>
                </a:moveTo>
                <a:cubicBezTo>
                  <a:pt x="8011" y="15298"/>
                  <a:pt x="8066" y="15295"/>
                  <a:pt x="8111" y="15280"/>
                </a:cubicBezTo>
                <a:cubicBezTo>
                  <a:pt x="8170" y="15260"/>
                  <a:pt x="8244" y="15237"/>
                  <a:pt x="8310" y="15255"/>
                </a:cubicBezTo>
                <a:cubicBezTo>
                  <a:pt x="8372" y="15272"/>
                  <a:pt x="8430" y="15289"/>
                  <a:pt x="8483" y="15329"/>
                </a:cubicBezTo>
                <a:cubicBezTo>
                  <a:pt x="8526" y="15361"/>
                  <a:pt x="8534" y="15410"/>
                  <a:pt x="8508" y="15453"/>
                </a:cubicBezTo>
                <a:cubicBezTo>
                  <a:pt x="8474" y="15511"/>
                  <a:pt x="8444" y="15546"/>
                  <a:pt x="8384" y="15577"/>
                </a:cubicBezTo>
                <a:cubicBezTo>
                  <a:pt x="8325" y="15608"/>
                  <a:pt x="8263" y="15638"/>
                  <a:pt x="8210" y="15677"/>
                </a:cubicBezTo>
                <a:cubicBezTo>
                  <a:pt x="8182" y="15698"/>
                  <a:pt x="8162" y="15711"/>
                  <a:pt x="8136" y="15726"/>
                </a:cubicBezTo>
                <a:cubicBezTo>
                  <a:pt x="8157" y="15747"/>
                  <a:pt x="8164" y="15765"/>
                  <a:pt x="8210" y="15776"/>
                </a:cubicBezTo>
                <a:cubicBezTo>
                  <a:pt x="8282" y="15793"/>
                  <a:pt x="8288" y="15788"/>
                  <a:pt x="8359" y="15825"/>
                </a:cubicBezTo>
                <a:cubicBezTo>
                  <a:pt x="8430" y="15862"/>
                  <a:pt x="8494" y="15900"/>
                  <a:pt x="8533" y="15974"/>
                </a:cubicBezTo>
                <a:cubicBezTo>
                  <a:pt x="8579" y="16061"/>
                  <a:pt x="8603" y="16176"/>
                  <a:pt x="8607" y="16272"/>
                </a:cubicBezTo>
                <a:cubicBezTo>
                  <a:pt x="8611" y="16379"/>
                  <a:pt x="8606" y="16438"/>
                  <a:pt x="8533" y="16520"/>
                </a:cubicBezTo>
                <a:cubicBezTo>
                  <a:pt x="8472" y="16589"/>
                  <a:pt x="8375" y="16628"/>
                  <a:pt x="8285" y="16644"/>
                </a:cubicBezTo>
                <a:cubicBezTo>
                  <a:pt x="8196" y="16660"/>
                  <a:pt x="8096" y="16644"/>
                  <a:pt x="8012" y="16619"/>
                </a:cubicBezTo>
                <a:cubicBezTo>
                  <a:pt x="7954" y="16602"/>
                  <a:pt x="7813" y="16562"/>
                  <a:pt x="7789" y="16495"/>
                </a:cubicBezTo>
                <a:cubicBezTo>
                  <a:pt x="7758" y="16410"/>
                  <a:pt x="7804" y="16340"/>
                  <a:pt x="7838" y="162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3384720"/>
            <a:ext cx="581040" cy="1152360"/>
          </a:xfrm>
          <a:custGeom>
            <a:avLst/>
            <a:gdLst/>
            <a:ahLst/>
            <a:rect l="l" t="t" r="r" b="b"/>
            <a:pathLst>
              <a:path w="1614" h="3201">
                <a:moveTo>
                  <a:pt x="6325" y="9550"/>
                </a:moveTo>
                <a:cubicBezTo>
                  <a:pt x="6356" y="9633"/>
                  <a:pt x="6357" y="9650"/>
                  <a:pt x="6350" y="9723"/>
                </a:cubicBezTo>
                <a:cubicBezTo>
                  <a:pt x="6341" y="9820"/>
                  <a:pt x="6328" y="9856"/>
                  <a:pt x="6300" y="9947"/>
                </a:cubicBezTo>
                <a:cubicBezTo>
                  <a:pt x="6290" y="9978"/>
                  <a:pt x="6291" y="10044"/>
                  <a:pt x="6276" y="10071"/>
                </a:cubicBezTo>
                <a:cubicBezTo>
                  <a:pt x="6253" y="10113"/>
                  <a:pt x="6251" y="10119"/>
                  <a:pt x="6251" y="10170"/>
                </a:cubicBezTo>
                <a:cubicBezTo>
                  <a:pt x="6251" y="10196"/>
                  <a:pt x="6276" y="10217"/>
                  <a:pt x="6300" y="10220"/>
                </a:cubicBezTo>
                <a:cubicBezTo>
                  <a:pt x="6360" y="10228"/>
                  <a:pt x="6416" y="10259"/>
                  <a:pt x="6474" y="10269"/>
                </a:cubicBezTo>
                <a:cubicBezTo>
                  <a:pt x="6546" y="10281"/>
                  <a:pt x="6653" y="10272"/>
                  <a:pt x="6722" y="10294"/>
                </a:cubicBezTo>
                <a:cubicBezTo>
                  <a:pt x="6786" y="10314"/>
                  <a:pt x="6798" y="10309"/>
                  <a:pt x="6871" y="10294"/>
                </a:cubicBezTo>
              </a:path>
              <a:path w="1614" h="3201">
                <a:moveTo>
                  <a:pt x="6821" y="9401"/>
                </a:moveTo>
                <a:cubicBezTo>
                  <a:pt x="6821" y="9467"/>
                  <a:pt x="6810" y="9536"/>
                  <a:pt x="6796" y="9599"/>
                </a:cubicBezTo>
                <a:cubicBezTo>
                  <a:pt x="6769" y="9721"/>
                  <a:pt x="6751" y="9845"/>
                  <a:pt x="6747" y="9971"/>
                </a:cubicBezTo>
                <a:cubicBezTo>
                  <a:pt x="6743" y="10092"/>
                  <a:pt x="6760" y="10201"/>
                  <a:pt x="6772" y="10319"/>
                </a:cubicBezTo>
                <a:cubicBezTo>
                  <a:pt x="6781" y="10413"/>
                  <a:pt x="6807" y="10502"/>
                  <a:pt x="6821" y="10592"/>
                </a:cubicBezTo>
                <a:cubicBezTo>
                  <a:pt x="6830" y="10646"/>
                  <a:pt x="6821" y="10710"/>
                  <a:pt x="6821" y="10765"/>
                </a:cubicBezTo>
              </a:path>
              <a:path w="1614" h="3201">
                <a:moveTo>
                  <a:pt x="5928" y="11088"/>
                </a:moveTo>
                <a:cubicBezTo>
                  <a:pt x="6043" y="11125"/>
                  <a:pt x="6206" y="11130"/>
                  <a:pt x="6325" y="11137"/>
                </a:cubicBezTo>
                <a:cubicBezTo>
                  <a:pt x="6507" y="11148"/>
                  <a:pt x="6689" y="11158"/>
                  <a:pt x="6871" y="11162"/>
                </a:cubicBezTo>
                <a:cubicBezTo>
                  <a:pt x="6991" y="11165"/>
                  <a:pt x="7149" y="11220"/>
                  <a:pt x="7268" y="11187"/>
                </a:cubicBezTo>
                <a:cubicBezTo>
                  <a:pt x="7305" y="11177"/>
                  <a:pt x="7297" y="11162"/>
                  <a:pt x="7342" y="11162"/>
                </a:cubicBezTo>
              </a:path>
              <a:path w="1614" h="3201">
                <a:moveTo>
                  <a:pt x="6350" y="11460"/>
                </a:moveTo>
                <a:cubicBezTo>
                  <a:pt x="6350" y="11636"/>
                  <a:pt x="6359" y="11810"/>
                  <a:pt x="6375" y="11981"/>
                </a:cubicBezTo>
                <a:cubicBezTo>
                  <a:pt x="6388" y="12127"/>
                  <a:pt x="6375" y="12280"/>
                  <a:pt x="6375" y="12427"/>
                </a:cubicBezTo>
              </a:path>
              <a:path w="1614" h="3201">
                <a:moveTo>
                  <a:pt x="6747" y="11683"/>
                </a:moveTo>
                <a:cubicBezTo>
                  <a:pt x="6852" y="11669"/>
                  <a:pt x="6922" y="11664"/>
                  <a:pt x="7020" y="11708"/>
                </a:cubicBezTo>
                <a:cubicBezTo>
                  <a:pt x="7102" y="11745"/>
                  <a:pt x="7139" y="11794"/>
                  <a:pt x="7144" y="11881"/>
                </a:cubicBezTo>
                <a:cubicBezTo>
                  <a:pt x="7149" y="11964"/>
                  <a:pt x="7131" y="12007"/>
                  <a:pt x="7094" y="12080"/>
                </a:cubicBezTo>
                <a:cubicBezTo>
                  <a:pt x="7057" y="12152"/>
                  <a:pt x="7020" y="12197"/>
                  <a:pt x="6970" y="12254"/>
                </a:cubicBezTo>
                <a:cubicBezTo>
                  <a:pt x="6931" y="12298"/>
                  <a:pt x="6860" y="12366"/>
                  <a:pt x="6846" y="12427"/>
                </a:cubicBezTo>
                <a:cubicBezTo>
                  <a:pt x="6837" y="12463"/>
                  <a:pt x="6842" y="12504"/>
                  <a:pt x="6871" y="12526"/>
                </a:cubicBezTo>
                <a:cubicBezTo>
                  <a:pt x="6926" y="12568"/>
                  <a:pt x="7007" y="12560"/>
                  <a:pt x="7069" y="12576"/>
                </a:cubicBezTo>
                <a:cubicBezTo>
                  <a:pt x="7171" y="12602"/>
                  <a:pt x="7261" y="12601"/>
                  <a:pt x="7367" y="12601"/>
                </a:cubicBezTo>
                <a:cubicBezTo>
                  <a:pt x="7435" y="12601"/>
                  <a:pt x="7486" y="12609"/>
                  <a:pt x="7541" y="125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7080" y="4848120"/>
            <a:ext cx="428760" cy="930240"/>
          </a:xfrm>
          <a:custGeom>
            <a:avLst/>
            <a:gdLst/>
            <a:ahLst/>
            <a:rect l="l" t="t" r="r" b="b"/>
            <a:pathLst>
              <a:path w="1192" h="2581">
                <a:moveTo>
                  <a:pt x="6722" y="13469"/>
                </a:moveTo>
                <a:cubicBezTo>
                  <a:pt x="6715" y="13616"/>
                  <a:pt x="6697" y="13742"/>
                  <a:pt x="6697" y="13891"/>
                </a:cubicBezTo>
                <a:cubicBezTo>
                  <a:pt x="6697" y="13967"/>
                  <a:pt x="6722" y="14033"/>
                  <a:pt x="6722" y="14114"/>
                </a:cubicBezTo>
                <a:cubicBezTo>
                  <a:pt x="6722" y="14142"/>
                  <a:pt x="6724" y="14153"/>
                  <a:pt x="6747" y="14163"/>
                </a:cubicBezTo>
              </a:path>
              <a:path w="1192" h="2581">
                <a:moveTo>
                  <a:pt x="6102" y="14337"/>
                </a:moveTo>
                <a:cubicBezTo>
                  <a:pt x="6187" y="14380"/>
                  <a:pt x="6229" y="14387"/>
                  <a:pt x="6325" y="14387"/>
                </a:cubicBezTo>
                <a:cubicBezTo>
                  <a:pt x="6479" y="14387"/>
                  <a:pt x="6622" y="14397"/>
                  <a:pt x="6772" y="14412"/>
                </a:cubicBezTo>
                <a:cubicBezTo>
                  <a:pt x="6875" y="14422"/>
                  <a:pt x="6968" y="14419"/>
                  <a:pt x="7069" y="14436"/>
                </a:cubicBezTo>
                <a:cubicBezTo>
                  <a:pt x="7126" y="14446"/>
                  <a:pt x="7149" y="14422"/>
                  <a:pt x="7169" y="14412"/>
                </a:cubicBezTo>
                <a:cubicBezTo>
                  <a:pt x="7177" y="14412"/>
                  <a:pt x="7185" y="14412"/>
                  <a:pt x="7193" y="14412"/>
                </a:cubicBezTo>
              </a:path>
              <a:path w="1192" h="2581">
                <a:moveTo>
                  <a:pt x="6424" y="14759"/>
                </a:moveTo>
                <a:cubicBezTo>
                  <a:pt x="6416" y="14767"/>
                  <a:pt x="6408" y="14776"/>
                  <a:pt x="6400" y="14784"/>
                </a:cubicBezTo>
                <a:cubicBezTo>
                  <a:pt x="6453" y="14784"/>
                  <a:pt x="6483" y="14767"/>
                  <a:pt x="6524" y="14759"/>
                </a:cubicBezTo>
                <a:cubicBezTo>
                  <a:pt x="6572" y="14749"/>
                  <a:pt x="6625" y="14740"/>
                  <a:pt x="6672" y="14734"/>
                </a:cubicBezTo>
                <a:cubicBezTo>
                  <a:pt x="6725" y="14727"/>
                  <a:pt x="6775" y="14742"/>
                  <a:pt x="6821" y="14759"/>
                </a:cubicBezTo>
                <a:cubicBezTo>
                  <a:pt x="6840" y="14766"/>
                  <a:pt x="6946" y="14828"/>
                  <a:pt x="6945" y="14858"/>
                </a:cubicBezTo>
                <a:cubicBezTo>
                  <a:pt x="6942" y="14916"/>
                  <a:pt x="6909" y="14944"/>
                  <a:pt x="6871" y="14982"/>
                </a:cubicBezTo>
                <a:cubicBezTo>
                  <a:pt x="6824" y="15029"/>
                  <a:pt x="6774" y="15023"/>
                  <a:pt x="6722" y="15056"/>
                </a:cubicBezTo>
                <a:cubicBezTo>
                  <a:pt x="6684" y="15080"/>
                  <a:pt x="6602" y="15107"/>
                  <a:pt x="6573" y="15131"/>
                </a:cubicBezTo>
                <a:cubicBezTo>
                  <a:pt x="6573" y="15139"/>
                  <a:pt x="6573" y="15148"/>
                  <a:pt x="6573" y="15156"/>
                </a:cubicBezTo>
                <a:cubicBezTo>
                  <a:pt x="6623" y="15162"/>
                  <a:pt x="6629" y="15157"/>
                  <a:pt x="6672" y="15180"/>
                </a:cubicBezTo>
                <a:cubicBezTo>
                  <a:pt x="6707" y="15198"/>
                  <a:pt x="6740" y="15200"/>
                  <a:pt x="6772" y="15230"/>
                </a:cubicBezTo>
                <a:cubicBezTo>
                  <a:pt x="6826" y="15281"/>
                  <a:pt x="6892" y="15360"/>
                  <a:pt x="6921" y="15429"/>
                </a:cubicBezTo>
                <a:cubicBezTo>
                  <a:pt x="6965" y="15530"/>
                  <a:pt x="6970" y="15618"/>
                  <a:pt x="6970" y="15726"/>
                </a:cubicBezTo>
                <a:cubicBezTo>
                  <a:pt x="6970" y="15794"/>
                  <a:pt x="6948" y="15922"/>
                  <a:pt x="6896" y="15974"/>
                </a:cubicBezTo>
                <a:cubicBezTo>
                  <a:pt x="6840" y="16030"/>
                  <a:pt x="6704" y="16075"/>
                  <a:pt x="6623" y="16049"/>
                </a:cubicBezTo>
                <a:cubicBezTo>
                  <a:pt x="6548" y="16024"/>
                  <a:pt x="6478" y="16003"/>
                  <a:pt x="6424" y="15949"/>
                </a:cubicBezTo>
                <a:cubicBezTo>
                  <a:pt x="6384" y="15909"/>
                  <a:pt x="6353" y="15862"/>
                  <a:pt x="6325" y="15825"/>
                </a:cubicBezTo>
                <a:cubicBezTo>
                  <a:pt x="6305" y="15798"/>
                  <a:pt x="6308" y="15828"/>
                  <a:pt x="6300" y="15776"/>
                </a:cubicBezTo>
              </a:path>
              <a:path w="1192" h="2581">
                <a:moveTo>
                  <a:pt x="7193" y="14833"/>
                </a:moveTo>
                <a:cubicBezTo>
                  <a:pt x="7185" y="14833"/>
                  <a:pt x="7177" y="14833"/>
                  <a:pt x="7169" y="14833"/>
                </a:cubicBezTo>
                <a:cubicBezTo>
                  <a:pt x="7213" y="14818"/>
                  <a:pt x="7214" y="14807"/>
                  <a:pt x="7293" y="147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8080" y="5330880"/>
            <a:ext cx="9720" cy="19080"/>
          </a:xfrm>
          <a:custGeom>
            <a:avLst/>
            <a:gdLst/>
            <a:ahLst/>
            <a:rect l="l" t="t" r="r" b="b"/>
            <a:pathLst>
              <a:path w="26" h="51">
                <a:moveTo>
                  <a:pt x="8830" y="14858"/>
                </a:moveTo>
                <a:cubicBezTo>
                  <a:pt x="8830" y="14830"/>
                  <a:pt x="8832" y="14819"/>
                  <a:pt x="8855" y="148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94120" y="4911840"/>
            <a:ext cx="1071720" cy="1258920"/>
          </a:xfrm>
          <a:custGeom>
            <a:avLst/>
            <a:gdLst/>
            <a:ahLst/>
            <a:rect l="l" t="t" r="r" b="b"/>
            <a:pathLst>
              <a:path w="2977" h="3498">
                <a:moveTo>
                  <a:pt x="10815" y="15007"/>
                </a:moveTo>
                <a:cubicBezTo>
                  <a:pt x="10953" y="15007"/>
                  <a:pt x="11079" y="15013"/>
                  <a:pt x="11212" y="15032"/>
                </a:cubicBezTo>
                <a:cubicBezTo>
                  <a:pt x="11228" y="15032"/>
                  <a:pt x="11245" y="15032"/>
                  <a:pt x="11261" y="15032"/>
                </a:cubicBezTo>
              </a:path>
              <a:path w="2977" h="3498">
                <a:moveTo>
                  <a:pt x="10840" y="15329"/>
                </a:moveTo>
                <a:cubicBezTo>
                  <a:pt x="10981" y="15345"/>
                  <a:pt x="11103" y="15364"/>
                  <a:pt x="11237" y="15379"/>
                </a:cubicBezTo>
              </a:path>
              <a:path w="2977" h="3498">
                <a:moveTo>
                  <a:pt x="12055" y="13643"/>
                </a:moveTo>
                <a:cubicBezTo>
                  <a:pt x="12101" y="13699"/>
                  <a:pt x="12120" y="13771"/>
                  <a:pt x="12129" y="13841"/>
                </a:cubicBezTo>
                <a:cubicBezTo>
                  <a:pt x="12141" y="13939"/>
                  <a:pt x="12139" y="14041"/>
                  <a:pt x="12154" y="14139"/>
                </a:cubicBezTo>
                <a:cubicBezTo>
                  <a:pt x="12171" y="14250"/>
                  <a:pt x="12178" y="14379"/>
                  <a:pt x="12204" y="14486"/>
                </a:cubicBezTo>
                <a:cubicBezTo>
                  <a:pt x="12222" y="14560"/>
                  <a:pt x="12251" y="14632"/>
                  <a:pt x="12254" y="14709"/>
                </a:cubicBezTo>
                <a:cubicBezTo>
                  <a:pt x="12254" y="14770"/>
                  <a:pt x="12244" y="14786"/>
                  <a:pt x="12278" y="14808"/>
                </a:cubicBezTo>
                <a:cubicBezTo>
                  <a:pt x="12290" y="14761"/>
                  <a:pt x="12326" y="14750"/>
                  <a:pt x="12353" y="14709"/>
                </a:cubicBezTo>
                <a:cubicBezTo>
                  <a:pt x="12380" y="14656"/>
                  <a:pt x="12392" y="14636"/>
                  <a:pt x="12427" y="14610"/>
                </a:cubicBezTo>
              </a:path>
              <a:path w="2977" h="3498">
                <a:moveTo>
                  <a:pt x="12948" y="13915"/>
                </a:moveTo>
                <a:cubicBezTo>
                  <a:pt x="12926" y="13977"/>
                  <a:pt x="12908" y="14049"/>
                  <a:pt x="12874" y="14114"/>
                </a:cubicBezTo>
                <a:cubicBezTo>
                  <a:pt x="12800" y="14256"/>
                  <a:pt x="12735" y="14390"/>
                  <a:pt x="12675" y="14536"/>
                </a:cubicBezTo>
                <a:cubicBezTo>
                  <a:pt x="12606" y="14704"/>
                  <a:pt x="12537" y="14872"/>
                  <a:pt x="12452" y="15032"/>
                </a:cubicBezTo>
                <a:cubicBezTo>
                  <a:pt x="12360" y="15205"/>
                  <a:pt x="12269" y="15379"/>
                  <a:pt x="12179" y="15553"/>
                </a:cubicBezTo>
                <a:cubicBezTo>
                  <a:pt x="12095" y="15714"/>
                  <a:pt x="12028" y="15881"/>
                  <a:pt x="11956" y="16049"/>
                </a:cubicBezTo>
                <a:cubicBezTo>
                  <a:pt x="11907" y="16163"/>
                  <a:pt x="11864" y="16263"/>
                  <a:pt x="11807" y="16371"/>
                </a:cubicBezTo>
                <a:cubicBezTo>
                  <a:pt x="11789" y="16405"/>
                  <a:pt x="11790" y="16408"/>
                  <a:pt x="11782" y="16446"/>
                </a:cubicBezTo>
              </a:path>
              <a:path w="2977" h="3498">
                <a:moveTo>
                  <a:pt x="12502" y="15503"/>
                </a:moveTo>
                <a:cubicBezTo>
                  <a:pt x="12591" y="15435"/>
                  <a:pt x="12657" y="15353"/>
                  <a:pt x="12750" y="15379"/>
                </a:cubicBezTo>
                <a:cubicBezTo>
                  <a:pt x="12875" y="15414"/>
                  <a:pt x="12868" y="15444"/>
                  <a:pt x="12923" y="15553"/>
                </a:cubicBezTo>
                <a:cubicBezTo>
                  <a:pt x="12972" y="15651"/>
                  <a:pt x="12933" y="15707"/>
                  <a:pt x="12898" y="15801"/>
                </a:cubicBezTo>
                <a:cubicBezTo>
                  <a:pt x="12860" y="15905"/>
                  <a:pt x="12797" y="15989"/>
                  <a:pt x="12725" y="16073"/>
                </a:cubicBezTo>
                <a:cubicBezTo>
                  <a:pt x="12668" y="16140"/>
                  <a:pt x="12602" y="16204"/>
                  <a:pt x="12526" y="16247"/>
                </a:cubicBezTo>
                <a:cubicBezTo>
                  <a:pt x="12486" y="16270"/>
                  <a:pt x="12442" y="16287"/>
                  <a:pt x="12402" y="16297"/>
                </a:cubicBezTo>
                <a:cubicBezTo>
                  <a:pt x="12402" y="16259"/>
                  <a:pt x="12410" y="16226"/>
                  <a:pt x="12427" y="16197"/>
                </a:cubicBezTo>
                <a:cubicBezTo>
                  <a:pt x="12438" y="16178"/>
                  <a:pt x="12502" y="16086"/>
                  <a:pt x="12526" y="16098"/>
                </a:cubicBezTo>
                <a:cubicBezTo>
                  <a:pt x="12577" y="16124"/>
                  <a:pt x="12628" y="16129"/>
                  <a:pt x="12675" y="16173"/>
                </a:cubicBezTo>
                <a:cubicBezTo>
                  <a:pt x="12758" y="16249"/>
                  <a:pt x="12806" y="16339"/>
                  <a:pt x="12923" y="16346"/>
                </a:cubicBezTo>
                <a:cubicBezTo>
                  <a:pt x="12968" y="16346"/>
                  <a:pt x="12981" y="16349"/>
                  <a:pt x="12998" y="16321"/>
                </a:cubicBezTo>
              </a:path>
              <a:path w="2977" h="3498">
                <a:moveTo>
                  <a:pt x="13196" y="15528"/>
                </a:moveTo>
                <a:cubicBezTo>
                  <a:pt x="13249" y="15475"/>
                  <a:pt x="13267" y="15439"/>
                  <a:pt x="13345" y="15453"/>
                </a:cubicBezTo>
                <a:cubicBezTo>
                  <a:pt x="13401" y="15463"/>
                  <a:pt x="13515" y="15508"/>
                  <a:pt x="13568" y="15503"/>
                </a:cubicBezTo>
                <a:cubicBezTo>
                  <a:pt x="13619" y="15499"/>
                  <a:pt x="13652" y="15463"/>
                  <a:pt x="13692" y="15453"/>
                </a:cubicBezTo>
                <a:cubicBezTo>
                  <a:pt x="13729" y="15444"/>
                  <a:pt x="13756" y="15442"/>
                  <a:pt x="13791" y="15429"/>
                </a:cubicBezTo>
                <a:cubicBezTo>
                  <a:pt x="13791" y="15744"/>
                  <a:pt x="13792" y="16058"/>
                  <a:pt x="13767" y="16371"/>
                </a:cubicBezTo>
                <a:cubicBezTo>
                  <a:pt x="13746" y="16635"/>
                  <a:pt x="13643" y="16879"/>
                  <a:pt x="13593" y="171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l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of all outcomes NOT in a particular e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ment of an event A is written as A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alculate, subtract                    1 – probability of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34:29Z</dcterms:created>
  <dc:creator>jnewman</dc:creator>
  <dc:description/>
  <dc:language>en-US</dc:language>
  <cp:lastModifiedBy>abeason</cp:lastModifiedBy>
  <dcterms:modified xsi:type="dcterms:W3CDTF">2009-04-07T17:56:24Z</dcterms:modified>
  <cp:revision>7</cp:revision>
  <dc:subject/>
  <dc:title>Lesson 9.7 part two</dc:title>
</cp:coreProperties>
</file>